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752120" y="3816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8344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828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4444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75212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14828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54444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752120" y="76320"/>
            <a:ext cx="7086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8344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7.xml"/><Relationship Id="rId12" Type="http://schemas.openxmlformats.org/officeDocument/2006/relationships/slide" Target="slide15.xml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67000" y="4343400"/>
            <a:ext cx="1371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2560" y="6588000"/>
            <a:ext cx="245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69696"/>
                </a:solidFill>
                <a:latin typeface="Arial"/>
              </a:rPr>
              <a:t>Copyright 2008 The McGraw-Hill Compan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60480" y="6553080"/>
            <a:ext cx="63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-</a:t>
            </a:r>
            <a:fld id="{00A190A3-EE90-41A1-9495-254E93DAEB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14800" y="1371600"/>
            <a:ext cx="5029200" cy="5486400"/>
            <a:chOff x="4114800" y="1371600"/>
            <a:chExt cx="5029200" cy="5486400"/>
          </a:xfrm>
        </p:grpSpPr>
        <p:sp>
          <p:nvSpPr>
            <p:cNvPr id="7" name=""/>
            <p:cNvSpPr/>
            <p:nvPr/>
          </p:nvSpPr>
          <p:spPr>
            <a:xfrm>
              <a:off x="4267080" y="6629400"/>
              <a:ext cx="487692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5400" y="1523880"/>
              <a:ext cx="0" cy="533412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114800" y="6705720"/>
              <a:ext cx="502920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91720" y="1371600"/>
              <a:ext cx="0" cy="548640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 txBox="1"/>
          <p:nvPr/>
        </p:nvSpPr>
        <p:spPr>
          <a:xfrm>
            <a:off x="1219320" y="685800"/>
            <a:ext cx="27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" name=""/>
          <p:cNvSpPr txBox="1"/>
          <p:nvPr/>
        </p:nvSpPr>
        <p:spPr>
          <a:xfrm>
            <a:off x="152280" y="74520"/>
            <a:ext cx="144792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Chap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" name=""/>
          <p:cNvSpPr/>
          <p:nvPr/>
        </p:nvSpPr>
        <p:spPr>
          <a:xfrm>
            <a:off x="76320" y="1332000"/>
            <a:ext cx="157788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Law of Diminishing Marginal Ut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Theory of Consumer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Deriving the Demand Cu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Applications and Ext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Last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Append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12" action="ppaction://hlinksldjump"/>
          </p:cNvPr>
          <p:cNvSpPr/>
          <p:nvPr/>
        </p:nvSpPr>
        <p:spPr>
          <a:xfrm>
            <a:off x="24480" y="56530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Key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>
            <a:hlinkClick r:id="" action="ppaction://hlinkshowjump?jump=endshow"/>
          </p:cNvPr>
          <p:cNvSpPr/>
          <p:nvPr/>
        </p:nvSpPr>
        <p:spPr>
          <a:xfrm>
            <a:off x="28080" y="61117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52280" y="55627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52280" y="64771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52280" y="60199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>
            <a:hlinkClick r:id="" action="ppaction://hlinkshowjump?jump=endshow"/>
          </p:cNvPr>
          <p:cNvSpPr/>
          <p:nvPr/>
        </p:nvSpPr>
        <p:spPr>
          <a:xfrm>
            <a:off x="990720" y="60958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22373" y="10800"/>
                </a:moveTo>
                <a:lnTo>
                  <a:pt x="11868" y="17806"/>
                </a:lnTo>
                <a:lnTo>
                  <a:pt x="11868" y="3794"/>
                </a:lnTo>
                <a:close/>
              </a:path>
              <a:path fill="darken" w="37749" h="21600">
                <a:moveTo>
                  <a:pt x="24219" y="3794"/>
                </a:moveTo>
                <a:lnTo>
                  <a:pt x="24219" y="17806"/>
                </a:lnTo>
                <a:lnTo>
                  <a:pt x="25881" y="17806"/>
                </a:lnTo>
                <a:lnTo>
                  <a:pt x="2588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>
            <a:hlinkClick r:id="rId13" action="ppaction://hlinksldjump"/>
          </p:cNvPr>
          <p:cNvSpPr/>
          <p:nvPr/>
        </p:nvSpPr>
        <p:spPr>
          <a:xfrm>
            <a:off x="990720" y="56386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3794"/>
                </a:moveTo>
                <a:lnTo>
                  <a:pt x="25881" y="10800"/>
                </a:lnTo>
                <a:lnTo>
                  <a:pt x="1186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hyperlink" Target="http://highered.mcgraw-hill.com/sites/0073273090/student_view0/chapter7/worked_problems.html" TargetMode="External"/><Relationship Id="rId14" Type="http://schemas.openxmlformats.org/officeDocument/2006/relationships/image" Target="../media/image6.jpeg"/><Relationship Id="rId15" Type="http://schemas.openxmlformats.org/officeDocument/2006/relationships/hyperlink" Target="http://highered.mcgraw-hill.com/sites/0073273090/student_view0/chapter7/worked_problems.html" TargetMode="Externa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highered.mcgraw-hill.com/sites/0073273090/student_view0/chapter7/origin_of_the_idea.html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" Target="slide17.xml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7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.jpeg"/><Relationship Id="rId4" Type="http://schemas.openxmlformats.org/officeDocument/2006/relationships/slide" Target="slide17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7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7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slide17.xml"/><Relationship Id="rId9" Type="http://schemas.openxmlformats.org/officeDocument/2006/relationships/slide" Target="slide20.xml"/><Relationship Id="rId10" Type="http://schemas.openxmlformats.org/officeDocument/2006/relationships/slide" Target="slide21.xml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17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273090/student_view0/chapter7/origin_of_the_idea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highered.mcgraw-hill.com/sites/0073273090/student_view0/chapter7/origin_of_the_idea.html" TargetMode="External"/><Relationship Id="rId4" Type="http://schemas.openxmlformats.org/officeDocument/2006/relationships/hyperlink" Target="http://highered.mcgraw-hill.com/sites/0073273090/student_view0/chapter7/interactive_graphs.html" TargetMode="External"/><Relationship Id="rId5" Type="http://schemas.openxmlformats.org/officeDocument/2006/relationships/hyperlink" Target="http://highered.mcgraw-hill.com/sites/0073273090/student_view0/chapter7/interactive_graphs.html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725560" y="304920"/>
            <a:ext cx="1171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660033"/>
                </a:solidFill>
                <a:latin typeface="Times New Roman"/>
              </a:rPr>
              <a:t>7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98760" y="2935440"/>
            <a:ext cx="580716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nsumer Behavior and Utility Maxim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4572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2292120" y="6183360"/>
            <a:ext cx="5994720" cy="353160"/>
          </a:xfrm>
          <a:prstGeom prst="rect">
            <a:avLst/>
          </a:prstGeom>
          <a:solidFill>
            <a:srgbClr val="ffff00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lick to Link to Appendix 7:  Indifference Curve Analys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0" r="1619" b="0"/>
          <a:stretch/>
        </p:blipFill>
        <p:spPr>
          <a:xfrm>
            <a:off x="5935680" y="295200"/>
            <a:ext cx="2601720" cy="28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730520" y="1817640"/>
            <a:ext cx="7119720" cy="210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33400" y="54000"/>
            <a:ext cx="7259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eory of Consumer Behavio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04960" y="682560"/>
            <a:ext cx="72374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33"/>
                </a:solidFill>
                <a:uFillTx/>
                <a:latin typeface="Arial"/>
              </a:rPr>
              <a:t>Numerical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tility-Maximizing Combination of Products </a:t>
            </a:r>
            <a:r>
              <a:rPr b="1" lang="en-US" sz="2600" spc="-1" strike="noStrike">
                <a:solidFill>
                  <a:srgbClr val="990033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669900"/>
                </a:solidFill>
                <a:latin typeface="Arial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btainable with an </a:t>
            </a:r>
            <a:r>
              <a:rPr b="1" lang="en-US" sz="2600" spc="-1" strike="noStrike">
                <a:solidFill>
                  <a:srgbClr val="990033"/>
                </a:solidFill>
                <a:latin typeface="Arial"/>
              </a:rPr>
              <a:t>Income of $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85680" y="3121200"/>
            <a:ext cx="1044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300120" y="2887560"/>
            <a:ext cx="4059720" cy="1025640"/>
            <a:chOff x="3300120" y="2887560"/>
            <a:chExt cx="4059720" cy="1025640"/>
          </a:xfrm>
        </p:grpSpPr>
        <p:sp>
          <p:nvSpPr>
            <p:cNvPr id="364" name=""/>
            <p:cNvSpPr/>
            <p:nvPr/>
          </p:nvSpPr>
          <p:spPr>
            <a:xfrm>
              <a:off x="330012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3880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536000" y="2654280"/>
            <a:ext cx="4248720" cy="1258560"/>
            <a:chOff x="4536000" y="2654280"/>
            <a:chExt cx="4248720" cy="1258560"/>
          </a:xfrm>
        </p:grpSpPr>
        <p:sp>
          <p:nvSpPr>
            <p:cNvPr id="367" name=""/>
            <p:cNvSpPr/>
            <p:nvPr/>
          </p:nvSpPr>
          <p:spPr>
            <a:xfrm>
              <a:off x="453600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7468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243240" y="1879560"/>
            <a:ext cx="2612880" cy="792720"/>
            <a:chOff x="3243240" y="1879560"/>
            <a:chExt cx="2612880" cy="792720"/>
          </a:xfrm>
        </p:grpSpPr>
        <p:sp>
          <p:nvSpPr>
            <p:cNvPr id="370" name=""/>
            <p:cNvSpPr/>
            <p:nvPr/>
          </p:nvSpPr>
          <p:spPr>
            <a:xfrm>
              <a:off x="3875040" y="1879560"/>
              <a:ext cx="13496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oduct 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ice = $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43240" y="2654280"/>
              <a:ext cx="261288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184800" y="1876320"/>
            <a:ext cx="2613240" cy="792720"/>
            <a:chOff x="6184800" y="1876320"/>
            <a:chExt cx="2613240" cy="792720"/>
          </a:xfrm>
        </p:grpSpPr>
        <p:sp>
          <p:nvSpPr>
            <p:cNvPr id="373" name=""/>
            <p:cNvSpPr/>
            <p:nvPr/>
          </p:nvSpPr>
          <p:spPr>
            <a:xfrm>
              <a:off x="6816600" y="1876320"/>
              <a:ext cx="13496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oduct B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= $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84800" y="2651040"/>
              <a:ext cx="26132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843920" y="3898800"/>
            <a:ext cx="5187240" cy="2760120"/>
            <a:chOff x="1843920" y="3898800"/>
            <a:chExt cx="5187240" cy="2760120"/>
          </a:xfrm>
        </p:grpSpPr>
        <p:sp>
          <p:nvSpPr>
            <p:cNvPr id="376" name=""/>
            <p:cNvSpPr/>
            <p:nvPr/>
          </p:nvSpPr>
          <p:spPr>
            <a:xfrm>
              <a:off x="1843920" y="3898800"/>
              <a:ext cx="11714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f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x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ve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288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671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959000" y="3898800"/>
            <a:ext cx="3402360" cy="2760120"/>
            <a:chOff x="4959000" y="3898800"/>
            <a:chExt cx="3402360" cy="2760120"/>
          </a:xfrm>
        </p:grpSpPr>
        <p:sp>
          <p:nvSpPr>
            <p:cNvPr id="380" name=""/>
            <p:cNvSpPr/>
            <p:nvPr/>
          </p:nvSpPr>
          <p:spPr>
            <a:xfrm>
              <a:off x="49590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973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429000" y="5052960"/>
            <a:ext cx="2592360" cy="15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997600" y="5475240"/>
            <a:ext cx="2754360" cy="11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46440" y="5475240"/>
            <a:ext cx="1591920" cy="11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41400" y="5465880"/>
            <a:ext cx="680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l Result – At These Prices, Purchase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2 of Ite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4 of B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02200" y="429264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943760" y="503712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8427960" y="3971880"/>
          <a:ext cx="217440" cy="3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7960" y="397188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8424720" y="4346640"/>
          <a:ext cx="217800" cy="3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24720" y="4346640"/>
                    <a:ext cx="2178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5510160" y="3954600"/>
          <a:ext cx="217440" cy="32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10160" y="39546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8466120" y="4721400"/>
          <a:ext cx="217440" cy="32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66120" y="47214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5540400" y="4329000"/>
          <a:ext cx="217440" cy="32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40400" y="432900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8496360" y="5095800"/>
          <a:ext cx="217440" cy="320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496360" y="509580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0" name=""/>
          <p:cNvGrpSpPr/>
          <p:nvPr/>
        </p:nvGrpSpPr>
        <p:grpSpPr>
          <a:xfrm>
            <a:off x="8139600" y="5832360"/>
            <a:ext cx="646920" cy="710280"/>
            <a:chOff x="8139600" y="5832360"/>
            <a:chExt cx="646920" cy="710280"/>
          </a:xfrm>
        </p:grpSpPr>
        <p:pic>
          <p:nvPicPr>
            <p:cNvPr id="401" name="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8228160" y="5832360"/>
              <a:ext cx="519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>
              <a:hlinkClick r:id="rId15"/>
            </p:cNvPr>
            <p:cNvSpPr/>
            <p:nvPr/>
          </p:nvSpPr>
          <p:spPr>
            <a:xfrm>
              <a:off x="8139600" y="623556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 7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33400" y="54000"/>
            <a:ext cx="7259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eory of Consumer Behavio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04960" y="727200"/>
            <a:ext cx="7237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Algebraic Re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911240" y="1646280"/>
            <a:ext cx="3057480" cy="1217160"/>
            <a:chOff x="1911240" y="1646280"/>
            <a:chExt cx="3057480" cy="1217160"/>
          </a:xfrm>
        </p:grpSpPr>
        <p:sp>
          <p:nvSpPr>
            <p:cNvPr id="406" name=""/>
            <p:cNvSpPr/>
            <p:nvPr/>
          </p:nvSpPr>
          <p:spPr>
            <a:xfrm>
              <a:off x="1958760" y="1646280"/>
              <a:ext cx="296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Arial"/>
                </a:rPr>
                <a:t>MU of Product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20000" y="2342880"/>
              <a:ext cx="18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Arial"/>
                </a:rPr>
                <a:t>Price of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1240" y="2260440"/>
              <a:ext cx="305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581800" y="1643040"/>
            <a:ext cx="3209760" cy="1217520"/>
            <a:chOff x="5581800" y="1643040"/>
            <a:chExt cx="3209760" cy="1217520"/>
          </a:xfrm>
        </p:grpSpPr>
        <p:sp>
          <p:nvSpPr>
            <p:cNvPr id="410" name=""/>
            <p:cNvSpPr/>
            <p:nvPr/>
          </p:nvSpPr>
          <p:spPr>
            <a:xfrm>
              <a:off x="5705280" y="1643040"/>
              <a:ext cx="296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9900"/>
                  </a:solidFill>
                  <a:latin typeface="Arial"/>
                </a:rPr>
                <a:t>MU of Product 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66520" y="2340000"/>
              <a:ext cx="18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9900"/>
                  </a:solidFill>
                  <a:latin typeface="Arial"/>
                </a:rPr>
                <a:t>Price of 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81800" y="2257200"/>
              <a:ext cx="3209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5042520" y="186696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397320" y="3257640"/>
            <a:ext cx="1554120" cy="1217160"/>
            <a:chOff x="3397320" y="3257640"/>
            <a:chExt cx="1554120" cy="1217160"/>
          </a:xfrm>
        </p:grpSpPr>
        <p:sp>
          <p:nvSpPr>
            <p:cNvPr id="415" name=""/>
            <p:cNvSpPr/>
            <p:nvPr/>
          </p:nvSpPr>
          <p:spPr>
            <a:xfrm>
              <a:off x="3549600" y="3257640"/>
              <a:ext cx="124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Arial"/>
                </a:rPr>
                <a:t>8 Uti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86560" y="39542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Arial"/>
                </a:rPr>
                <a:t>$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97320" y="3871800"/>
              <a:ext cx="155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583240" y="3259080"/>
            <a:ext cx="1554120" cy="1217160"/>
            <a:chOff x="5583240" y="3259080"/>
            <a:chExt cx="1554120" cy="1217160"/>
          </a:xfrm>
        </p:grpSpPr>
        <p:sp>
          <p:nvSpPr>
            <p:cNvPr id="419" name=""/>
            <p:cNvSpPr/>
            <p:nvPr/>
          </p:nvSpPr>
          <p:spPr>
            <a:xfrm>
              <a:off x="5637600" y="3259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9900"/>
                  </a:solidFill>
                  <a:latin typeface="Arial"/>
                </a:rPr>
                <a:t>16 Uti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72480" y="39556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9900"/>
                  </a:solidFill>
                  <a:latin typeface="Arial"/>
                </a:rPr>
                <a:t>$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83240" y="3873240"/>
              <a:ext cx="155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5039280" y="34862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52560" y="4692600"/>
            <a:ext cx="68277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Optimum Achie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ney Income is Allocated so that the Last Dollar Spent on Each Product Yields the Same Extra or Marginal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996920" y="3913200"/>
            <a:ext cx="2222640" cy="426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000160" y="3438360"/>
            <a:ext cx="2222640" cy="42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578480" y="1378080"/>
            <a:ext cx="3956040" cy="5166000"/>
            <a:chOff x="4578480" y="1378080"/>
            <a:chExt cx="3956040" cy="5166000"/>
          </a:xfrm>
        </p:grpSpPr>
        <p:sp>
          <p:nvSpPr>
            <p:cNvPr id="427" name=""/>
            <p:cNvSpPr/>
            <p:nvPr/>
          </p:nvSpPr>
          <p:spPr>
            <a:xfrm>
              <a:off x="5258160" y="1379520"/>
              <a:ext cx="3265200" cy="4505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5902560" y="1378080"/>
              <a:ext cx="1957320" cy="4496760"/>
              <a:chOff x="5902560" y="1378080"/>
              <a:chExt cx="1957320" cy="4496760"/>
            </a:xfrm>
          </p:grpSpPr>
          <p:sp>
            <p:nvSpPr>
              <p:cNvPr id="429" name=""/>
              <p:cNvSpPr/>
              <p:nvPr/>
            </p:nvSpPr>
            <p:spPr>
              <a:xfrm>
                <a:off x="5902560" y="1378080"/>
                <a:ext cx="0" cy="4496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54880" y="1378080"/>
                <a:ext cx="0" cy="4496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07560" y="1378080"/>
                <a:ext cx="0" cy="4496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859880" y="1378080"/>
                <a:ext cx="0" cy="4496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5258160" y="5884920"/>
              <a:ext cx="32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6200000">
              <a:off x="3578040" y="3612240"/>
              <a:ext cx="239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ce of Product </a:t>
              </a:r>
              <a:r>
                <a:rPr b="1" lang="en-US" sz="2000" spc="-1" strike="noStrike">
                  <a:solidFill>
                    <a:srgbClr val="6699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78800" y="5716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75560" y="3924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72320" y="2220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09080" y="588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06160" y="588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71840" y="6145200"/>
              <a:ext cx="31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ntity Demanded of </a:t>
              </a:r>
              <a:r>
                <a:rPr b="1" lang="en-US" sz="2000" spc="-1" strike="noStrike">
                  <a:solidFill>
                    <a:srgbClr val="6699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5264280" y="1812960"/>
              <a:ext cx="3267000" cy="3421080"/>
              <a:chOff x="5264280" y="1812960"/>
              <a:chExt cx="3267000" cy="342108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5264280" y="2949480"/>
                <a:ext cx="3267000" cy="2284560"/>
                <a:chOff x="5264280" y="2949480"/>
                <a:chExt cx="3267000" cy="228456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5264280" y="5234040"/>
                  <a:ext cx="3267000" cy="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264280" y="46630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264280" y="4091760"/>
                  <a:ext cx="3267000" cy="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264280" y="3520440"/>
                  <a:ext cx="3267000" cy="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264280" y="29494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5264280" y="2384280"/>
                <a:ext cx="326700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264280" y="1812960"/>
                <a:ext cx="326700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5258160" y="1378080"/>
              <a:ext cx="0" cy="451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21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riving the Demand Curv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704960" y="727200"/>
            <a:ext cx="7237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Same Numeric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32720" y="3414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02280" y="3889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548520" y="341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4852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817640" y="2678040"/>
            <a:ext cx="2666880" cy="1730520"/>
            <a:chOff x="1817640" y="2678040"/>
            <a:chExt cx="2666880" cy="1730520"/>
          </a:xfrm>
        </p:grpSpPr>
        <p:sp>
          <p:nvSpPr>
            <p:cNvPr id="458" name=""/>
            <p:cNvSpPr/>
            <p:nvPr/>
          </p:nvSpPr>
          <p:spPr>
            <a:xfrm>
              <a:off x="1817640" y="2678040"/>
              <a:ext cx="2666880" cy="708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75240" y="271476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P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Unit of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37320" y="2711520"/>
              <a:ext cx="13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Qua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Deman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59280" y="2689200"/>
              <a:ext cx="0" cy="171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6215040" y="1741320"/>
            <a:ext cx="2079720" cy="36147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92960" y="2300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790040" y="4586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132040" y="5316480"/>
            <a:ext cx="44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99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6699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740240" y="5095800"/>
            <a:ext cx="3538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Incom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Substitution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8297640" y="5954760"/>
            <a:ext cx="618120" cy="694440"/>
            <a:chOff x="8297640" y="5954760"/>
            <a:chExt cx="618120" cy="694440"/>
          </a:xfrm>
        </p:grpSpPr>
        <p:pic>
          <p:nvPicPr>
            <p:cNvPr id="468" name="" descr=""/>
            <p:cNvPicPr/>
            <p:nvPr/>
          </p:nvPicPr>
          <p:blipFill>
            <a:blip r:embed="rId1"/>
            <a:stretch/>
          </p:blipFill>
          <p:spPr>
            <a:xfrm>
              <a:off x="8375760" y="5954760"/>
              <a:ext cx="4633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>
              <a:hlinkClick r:id="rId2"/>
            </p:cNvPr>
            <p:cNvSpPr/>
            <p:nvPr/>
          </p:nvSpPr>
          <p:spPr>
            <a:xfrm>
              <a:off x="8297640" y="634212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7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09280" y="76320"/>
            <a:ext cx="7194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lications and Exten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52480" y="990720"/>
            <a:ext cx="7174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DVDs and DVD Players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The Diamond-Water Paradox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The Value of Tim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Medical Care Purchases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Cash and Noncash Gifts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8113320" y="2862360"/>
            <a:ext cx="618120" cy="694440"/>
            <a:chOff x="8113320" y="2862360"/>
            <a:chExt cx="618120" cy="694440"/>
          </a:xfrm>
        </p:grpSpPr>
        <p:pic>
          <p:nvPicPr>
            <p:cNvPr id="473" name="" descr=""/>
            <p:cNvPicPr/>
            <p:nvPr/>
          </p:nvPicPr>
          <p:blipFill>
            <a:blip r:embed="rId1"/>
            <a:stretch/>
          </p:blipFill>
          <p:spPr>
            <a:xfrm>
              <a:off x="8191440" y="2862360"/>
              <a:ext cx="46368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8113320" y="324972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7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indefinite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riminal Behavio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862280" y="1407600"/>
            <a:ext cx="69768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</a:rPr>
              <a:t>Economic Analysis Offers Insights Into Property Crimes Such as Robbery, Burglary, and Auto Theft</a:t>
            </a:r>
            <a:endParaRPr b="1" lang="en-US" sz="34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</a:rPr>
              <a:t>Theory of a Rational Consumer</a:t>
            </a:r>
            <a:endParaRPr b="1" lang="en-US" sz="34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</a:rPr>
              <a:t>Buy Versus Steal Decision</a:t>
            </a:r>
            <a:endParaRPr b="1" lang="en-US" sz="34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</a:rPr>
              <a:t>Compare Marginal Utility of Item Versus Costs – Guilt, Fines, or Prison Time</a:t>
            </a:r>
            <a:endParaRPr b="1" lang="en-US" sz="34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</a:rPr>
              <a:t>Crime May Be Reduced by “Increasing” the “Price of Crime” </a:t>
            </a:r>
            <a:endParaRPr b="1" lang="en-US" sz="3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20204400">
            <a:off x="1409400" y="664920"/>
            <a:ext cx="1325520" cy="9856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725480" y="828720"/>
            <a:ext cx="7108920" cy="5692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b001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7524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law of diminishing marginal utility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utility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total utility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marginal utility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rational behavior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budget constrain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utility-maximizing rul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income effec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substitution effec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Arial"/>
              </a:rPr>
              <a:t>Next Chapter Preview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419720" y="3746520"/>
            <a:ext cx="414468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apter 8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3" name=""/>
          <p:cNvSpPr/>
          <p:nvPr/>
        </p:nvSpPr>
        <p:spPr>
          <a:xfrm>
            <a:off x="1873800" y="2452680"/>
            <a:ext cx="51138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Costs o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rId3" action="ppaction://hlinksldjump"/>
          </p:cNvPr>
          <p:cNvSpPr/>
          <p:nvPr/>
        </p:nvSpPr>
        <p:spPr>
          <a:xfrm>
            <a:off x="2292120" y="6183360"/>
            <a:ext cx="5994720" cy="353160"/>
          </a:xfrm>
          <a:prstGeom prst="rect">
            <a:avLst/>
          </a:prstGeom>
          <a:solidFill>
            <a:srgbClr val="ffff00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lick to Link to Appendix 7:  Indifference Curve Analys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500"/>
                            </p:stCondLst>
                            <p:childTnLst>
                              <p:par>
                                <p:cTn id="7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738440" y="5114880"/>
            <a:ext cx="33098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730520" y="3639960"/>
            <a:ext cx="33098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51560" y="3736800"/>
            <a:ext cx="2852640" cy="1818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21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fference Curve Analy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19000" y="679320"/>
            <a:ext cx="721836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Budget Line </a:t>
            </a:r>
            <a:r>
              <a:rPr b="1" i="1" lang="en-US" sz="4400" spc="-1" strike="noStrike">
                <a:solidFill>
                  <a:srgbClr val="990033"/>
                </a:solidFill>
                <a:latin typeface="Arial"/>
              </a:rPr>
              <a:t>(Constraint)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Income Change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Price Change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295760" y="6039000"/>
            <a:ext cx="1604160" cy="622440"/>
            <a:chOff x="7295760" y="6039000"/>
            <a:chExt cx="1604160" cy="622440"/>
          </a:xfrm>
        </p:grpSpPr>
        <p:sp>
          <p:nvSpPr>
            <p:cNvPr id="491" name="">
              <a:hlinkClick r:id="rId1" action="ppaction://hlinksldjump"/>
            </p:cNvPr>
            <p:cNvSpPr/>
            <p:nvPr/>
          </p:nvSpPr>
          <p:spPr>
            <a:xfrm flipH="1" flipV="1">
              <a:off x="7463520" y="6039000"/>
              <a:ext cx="1351080" cy="396720"/>
            </a:xfrm>
            <a:custGeom>
              <a:avLst/>
              <a:gdLst>
                <a:gd name="textAreaLeft" fmla="*/ 236160 w 1351080"/>
                <a:gd name="textAreaRight" fmla="*/ 979560 w 1351080"/>
                <a:gd name="textAreaTop" fmla="*/ 52920 h 396720"/>
                <a:gd name="textAreaBottom" fmla="*/ 343800 h 3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>
              <a:hlinkClick r:id="rId2" action="ppaction://hlinksldjump"/>
            </p:cNvPr>
            <p:cNvSpPr/>
            <p:nvPr/>
          </p:nvSpPr>
          <p:spPr>
            <a:xfrm>
              <a:off x="7295760" y="6384960"/>
              <a:ext cx="160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Return to Chapter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072040" y="2671920"/>
            <a:ext cx="3760920" cy="3408840"/>
            <a:chOff x="5072040" y="2671920"/>
            <a:chExt cx="3760920" cy="3408840"/>
          </a:xfrm>
        </p:grpSpPr>
        <p:grpSp>
          <p:nvGrpSpPr>
            <p:cNvPr id="494" name=""/>
            <p:cNvGrpSpPr/>
            <p:nvPr/>
          </p:nvGrpSpPr>
          <p:grpSpPr>
            <a:xfrm>
              <a:off x="5883120" y="5553000"/>
              <a:ext cx="2679480" cy="337320"/>
              <a:chOff x="5883120" y="5553000"/>
              <a:chExt cx="2679480" cy="337320"/>
            </a:xfrm>
          </p:grpSpPr>
          <p:sp>
            <p:nvSpPr>
              <p:cNvPr id="495" name=""/>
              <p:cNvSpPr/>
              <p:nvPr/>
            </p:nvSpPr>
            <p:spPr>
              <a:xfrm>
                <a:off x="588312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34644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81012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29576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92480" y="5553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156160" y="5553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 rot="16200000">
              <a:off x="4575960" y="395640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 of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5167080" y="2671920"/>
              <a:ext cx="406440" cy="3048480"/>
              <a:chOff x="5167080" y="2671920"/>
              <a:chExt cx="406440" cy="3048480"/>
            </a:xfrm>
          </p:grpSpPr>
          <p:sp>
            <p:nvSpPr>
              <p:cNvPr id="503" name=""/>
              <p:cNvSpPr/>
              <p:nvPr/>
            </p:nvSpPr>
            <p:spPr>
              <a:xfrm>
                <a:off x="5279760" y="3992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279760" y="3556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167080" y="310824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167080" y="26719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79760" y="4444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279760" y="4897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79760" y="5383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556240" y="2843280"/>
              <a:ext cx="3276720" cy="2733480"/>
              <a:chOff x="5556240" y="2843280"/>
              <a:chExt cx="3276720" cy="273348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5559480" y="2843280"/>
                <a:ext cx="3273120" cy="2733120"/>
                <a:chOff x="5559480" y="2843280"/>
                <a:chExt cx="3273120" cy="2733120"/>
              </a:xfrm>
            </p:grpSpPr>
            <p:grpSp>
              <p:nvGrpSpPr>
                <p:cNvPr id="512" name=""/>
                <p:cNvGrpSpPr/>
                <p:nvPr/>
              </p:nvGrpSpPr>
              <p:grpSpPr>
                <a:xfrm>
                  <a:off x="5564160" y="2843280"/>
                  <a:ext cx="3268440" cy="2733120"/>
                  <a:chOff x="5564160" y="2843280"/>
                  <a:chExt cx="3268440" cy="273312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556416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60307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649800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69649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743184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78991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836604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883260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5559480" y="2846160"/>
                  <a:ext cx="3267000" cy="2722320"/>
                  <a:chOff x="5559480" y="2846160"/>
                  <a:chExt cx="3267000" cy="272232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5559480" y="556848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5559480" y="506232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5559480" y="461628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5559480" y="417024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5559480" y="373176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5559480" y="328464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5559480" y="284616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9" name=""/>
              <p:cNvSpPr/>
              <p:nvPr/>
            </p:nvSpPr>
            <p:spPr>
              <a:xfrm>
                <a:off x="5556240" y="2844720"/>
                <a:ext cx="0" cy="273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556240" y="556596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6499080" y="577368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 of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636920" y="2995560"/>
            <a:ext cx="3497760" cy="2631600"/>
            <a:chOff x="1636920" y="2995560"/>
            <a:chExt cx="3497760" cy="2631600"/>
          </a:xfrm>
        </p:grpSpPr>
        <p:sp>
          <p:nvSpPr>
            <p:cNvPr id="533" name=""/>
            <p:cNvSpPr/>
            <p:nvPr/>
          </p:nvSpPr>
          <p:spPr>
            <a:xfrm>
              <a:off x="1698480" y="3006360"/>
              <a:ext cx="3384720" cy="566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636920" y="3012840"/>
              <a:ext cx="121392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its of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rice = $1.5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95040" y="3009600"/>
              <a:ext cx="11361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its of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rice = $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25080" y="2995560"/>
              <a:ext cx="12096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endi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2819520" y="3004920"/>
              <a:ext cx="1119240" cy="2622240"/>
              <a:chOff x="2819520" y="3004920"/>
              <a:chExt cx="1119240" cy="2622240"/>
            </a:xfrm>
          </p:grpSpPr>
          <p:sp>
            <p:nvSpPr>
              <p:cNvPr id="538" name=""/>
              <p:cNvSpPr/>
              <p:nvPr/>
            </p:nvSpPr>
            <p:spPr>
              <a:xfrm>
                <a:off x="2819520" y="3004920"/>
                <a:ext cx="0" cy="262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938760" y="3004920"/>
                <a:ext cx="0" cy="262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>
            <a:off x="2054160" y="3591000"/>
            <a:ext cx="32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128760" y="3587760"/>
            <a:ext cx="46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03000" y="3595680"/>
            <a:ext cx="60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551560" y="3716280"/>
            <a:ext cx="2819160" cy="1828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312040" y="5497560"/>
            <a:ext cx="1206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492880" y="3666960"/>
            <a:ext cx="120600" cy="120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675040" y="4842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ttain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728040" y="35942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Unattain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974200" y="2916360"/>
            <a:ext cx="1459440" cy="623160"/>
            <a:chOff x="5974200" y="2916360"/>
            <a:chExt cx="1459440" cy="623160"/>
          </a:xfrm>
        </p:grpSpPr>
        <p:sp>
          <p:nvSpPr>
            <p:cNvPr id="549" name=""/>
            <p:cNvSpPr/>
            <p:nvPr/>
          </p:nvSpPr>
          <p:spPr>
            <a:xfrm>
              <a:off x="5974200" y="2916360"/>
              <a:ext cx="14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come = $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133320" y="3168720"/>
              <a:ext cx="1141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 $1.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02280" y="3214800"/>
              <a:ext cx="14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374240" y="4356000"/>
            <a:ext cx="1459440" cy="637560"/>
            <a:chOff x="7374240" y="4356000"/>
            <a:chExt cx="1459440" cy="637560"/>
          </a:xfrm>
        </p:grpSpPr>
        <p:sp>
          <p:nvSpPr>
            <p:cNvPr id="553" name=""/>
            <p:cNvSpPr/>
            <p:nvPr/>
          </p:nvSpPr>
          <p:spPr>
            <a:xfrm>
              <a:off x="7374240" y="4356000"/>
              <a:ext cx="14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come = $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74480" y="4622760"/>
              <a:ext cx="858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 $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00880" y="4668840"/>
              <a:ext cx="14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 flipH="1">
            <a:off x="5605560" y="3279600"/>
            <a:ext cx="403200" cy="40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164440" y="4881600"/>
            <a:ext cx="195480" cy="598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7720" y="110664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ppend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4707000"/>
            <a:ext cx="1671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Indifference Curv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Demand Cu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Appendix 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000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50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500"/>
                            </p:stCondLst>
                            <p:childTnLst>
                              <p:par>
                                <p:cTn id="7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5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80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3000"/>
                            </p:stCondLst>
                            <p:childTnLst>
                              <p:par>
                                <p:cTn id="7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0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00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10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735200" y="4989600"/>
            <a:ext cx="33098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738440" y="4548240"/>
            <a:ext cx="33098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738440" y="4103640"/>
            <a:ext cx="33098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730520" y="3639960"/>
            <a:ext cx="33098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21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fference Curve Analy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719000" y="679320"/>
            <a:ext cx="721836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What is Preferred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676080" indent="-259920">
              <a:lnSpc>
                <a:spcPct val="8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ownsloping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676080" indent="-259920">
              <a:lnSpc>
                <a:spcPct val="8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vex to Origin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676080" indent="-259920">
              <a:lnSpc>
                <a:spcPct val="85000"/>
              </a:lnSpc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arginal Rate of Substitution (MRS)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7295760" y="6039000"/>
            <a:ext cx="1604160" cy="622440"/>
            <a:chOff x="7295760" y="6039000"/>
            <a:chExt cx="1604160" cy="622440"/>
          </a:xfrm>
        </p:grpSpPr>
        <p:sp>
          <p:nvSpPr>
            <p:cNvPr id="567" name="">
              <a:hlinkClick r:id="rId1" action="ppaction://hlinksldjump"/>
            </p:cNvPr>
            <p:cNvSpPr/>
            <p:nvPr/>
          </p:nvSpPr>
          <p:spPr>
            <a:xfrm flipH="1" flipV="1">
              <a:off x="7463520" y="6039000"/>
              <a:ext cx="1351080" cy="396720"/>
            </a:xfrm>
            <a:custGeom>
              <a:avLst/>
              <a:gdLst>
                <a:gd name="textAreaLeft" fmla="*/ 236160 w 1351080"/>
                <a:gd name="textAreaRight" fmla="*/ 979560 w 1351080"/>
                <a:gd name="textAreaTop" fmla="*/ 52920 h 396720"/>
                <a:gd name="textAreaBottom" fmla="*/ 343800 h 3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>
              <a:hlinkClick r:id="rId2" action="ppaction://hlinksldjump"/>
            </p:cNvPr>
            <p:cNvSpPr/>
            <p:nvPr/>
          </p:nvSpPr>
          <p:spPr>
            <a:xfrm>
              <a:off x="7295760" y="6384960"/>
              <a:ext cx="160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Return to Chapter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072040" y="2671920"/>
            <a:ext cx="3760920" cy="3408840"/>
            <a:chOff x="5072040" y="2671920"/>
            <a:chExt cx="3760920" cy="3408840"/>
          </a:xfrm>
        </p:grpSpPr>
        <p:grpSp>
          <p:nvGrpSpPr>
            <p:cNvPr id="570" name=""/>
            <p:cNvGrpSpPr/>
            <p:nvPr/>
          </p:nvGrpSpPr>
          <p:grpSpPr>
            <a:xfrm>
              <a:off x="5883120" y="5553000"/>
              <a:ext cx="2679480" cy="337320"/>
              <a:chOff x="5883120" y="5553000"/>
              <a:chExt cx="2679480" cy="337320"/>
            </a:xfrm>
          </p:grpSpPr>
          <p:sp>
            <p:nvSpPr>
              <p:cNvPr id="571" name=""/>
              <p:cNvSpPr/>
              <p:nvPr/>
            </p:nvSpPr>
            <p:spPr>
              <a:xfrm>
                <a:off x="588312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4644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81012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9576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692480" y="5553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156160" y="5553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 rot="16200000">
              <a:off x="4575960" y="395640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 of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5167080" y="2671920"/>
              <a:ext cx="406440" cy="3048480"/>
              <a:chOff x="5167080" y="2671920"/>
              <a:chExt cx="406440" cy="3048480"/>
            </a:xfrm>
          </p:grpSpPr>
          <p:sp>
            <p:nvSpPr>
              <p:cNvPr id="579" name=""/>
              <p:cNvSpPr/>
              <p:nvPr/>
            </p:nvSpPr>
            <p:spPr>
              <a:xfrm>
                <a:off x="5279760" y="3992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279760" y="3556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167080" y="310824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67080" y="26719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79760" y="4444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279760" y="4897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279760" y="5383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556240" y="2843280"/>
              <a:ext cx="3276720" cy="2733480"/>
              <a:chOff x="5556240" y="2843280"/>
              <a:chExt cx="3276720" cy="273348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5559480" y="2843280"/>
                <a:ext cx="3273120" cy="2733120"/>
                <a:chOff x="5559480" y="2843280"/>
                <a:chExt cx="3273120" cy="2733120"/>
              </a:xfrm>
            </p:grpSpPr>
            <p:grpSp>
              <p:nvGrpSpPr>
                <p:cNvPr id="588" name=""/>
                <p:cNvGrpSpPr/>
                <p:nvPr/>
              </p:nvGrpSpPr>
              <p:grpSpPr>
                <a:xfrm>
                  <a:off x="5564160" y="2843280"/>
                  <a:ext cx="3268440" cy="2733120"/>
                  <a:chOff x="5564160" y="2843280"/>
                  <a:chExt cx="3268440" cy="273312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556416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60307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649800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69649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743184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78991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836604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883260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5559480" y="2846160"/>
                  <a:ext cx="3267000" cy="2722320"/>
                  <a:chOff x="5559480" y="2846160"/>
                  <a:chExt cx="3267000" cy="272232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5559480" y="556848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5559480" y="506232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559480" y="461628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5559480" y="417024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5559480" y="373176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5559480" y="328464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5559480" y="284616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5" name=""/>
              <p:cNvSpPr/>
              <p:nvPr/>
            </p:nvSpPr>
            <p:spPr>
              <a:xfrm>
                <a:off x="5556240" y="2844720"/>
                <a:ext cx="0" cy="273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56240" y="556596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6499080" y="577368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 of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647360" y="3005280"/>
            <a:ext cx="3474360" cy="2622240"/>
            <a:chOff x="1647360" y="3005280"/>
            <a:chExt cx="3474360" cy="2622240"/>
          </a:xfrm>
        </p:grpSpPr>
        <p:sp>
          <p:nvSpPr>
            <p:cNvPr id="609" name=""/>
            <p:cNvSpPr/>
            <p:nvPr/>
          </p:nvSpPr>
          <p:spPr>
            <a:xfrm>
              <a:off x="1698480" y="3006720"/>
              <a:ext cx="3384720" cy="566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47360" y="310500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b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961720" y="3106800"/>
              <a:ext cx="113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its of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85560" y="3106800"/>
              <a:ext cx="113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its of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019320" y="3005280"/>
              <a:ext cx="0" cy="262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8480" y="3005280"/>
              <a:ext cx="0" cy="262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131920" y="3505320"/>
            <a:ext cx="40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84280" y="3505320"/>
            <a:ext cx="46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386240" y="3505320"/>
            <a:ext cx="32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31080" y="2830680"/>
            <a:ext cx="2350800" cy="2274840"/>
          </a:xfrm>
          <a:custGeom>
            <a:avLst/>
            <a:gdLst/>
            <a:ahLst/>
            <a:rect l="l" t="t" r="r" b="b"/>
            <a:pathLst>
              <a:path w="1481" h="1433">
                <a:moveTo>
                  <a:pt x="0" y="0"/>
                </a:moveTo>
                <a:cubicBezTo>
                  <a:pt x="99" y="323"/>
                  <a:pt x="198" y="647"/>
                  <a:pt x="295" y="836"/>
                </a:cubicBezTo>
                <a:cubicBezTo>
                  <a:pt x="392" y="1025"/>
                  <a:pt x="486" y="1061"/>
                  <a:pt x="583" y="1131"/>
                </a:cubicBezTo>
                <a:cubicBezTo>
                  <a:pt x="680" y="1201"/>
                  <a:pt x="728" y="1205"/>
                  <a:pt x="878" y="1255"/>
                </a:cubicBezTo>
                <a:cubicBezTo>
                  <a:pt x="1028" y="1305"/>
                  <a:pt x="1381" y="1403"/>
                  <a:pt x="1481" y="1433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70600" y="2789280"/>
            <a:ext cx="1206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34280" y="4108320"/>
            <a:ext cx="120600" cy="120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897600" y="4560840"/>
            <a:ext cx="1206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372440" y="4768920"/>
            <a:ext cx="1206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135480" y="2747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510600" y="396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918120" y="4297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393320" y="45054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2946240" y="5791320"/>
            <a:ext cx="618120" cy="694440"/>
            <a:chOff x="2946240" y="5791320"/>
            <a:chExt cx="618120" cy="694440"/>
          </a:xfrm>
        </p:grpSpPr>
        <p:pic>
          <p:nvPicPr>
            <p:cNvPr id="628" name="" descr=""/>
            <p:cNvPicPr/>
            <p:nvPr/>
          </p:nvPicPr>
          <p:blipFill>
            <a:blip r:embed="rId3"/>
            <a:stretch/>
          </p:blipFill>
          <p:spPr>
            <a:xfrm>
              <a:off x="3024360" y="5791320"/>
              <a:ext cx="4633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2946240" y="617868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7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8377200" y="4924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87720" y="110664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ppend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4707000"/>
            <a:ext cx="1671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Indifference Curv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Demand Cu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Appendix 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5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4500"/>
                            </p:stCondLst>
                            <p:childTnLst>
                              <p:par>
                                <p:cTn id="8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500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10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10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417840" y="3313080"/>
            <a:ext cx="3863880" cy="24624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21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fference Curve Analy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19000" y="690480"/>
            <a:ext cx="7218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Indifference Map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quilibrium Position at Tangency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295760" y="6039000"/>
            <a:ext cx="1604160" cy="622440"/>
            <a:chOff x="7295760" y="6039000"/>
            <a:chExt cx="1604160" cy="622440"/>
          </a:xfrm>
        </p:grpSpPr>
        <p:sp>
          <p:nvSpPr>
            <p:cNvPr id="637" name="">
              <a:hlinkClick r:id="rId1" action="ppaction://hlinksldjump"/>
            </p:cNvPr>
            <p:cNvSpPr/>
            <p:nvPr/>
          </p:nvSpPr>
          <p:spPr>
            <a:xfrm flipH="1" flipV="1">
              <a:off x="7463520" y="6039000"/>
              <a:ext cx="1351080" cy="396720"/>
            </a:xfrm>
            <a:custGeom>
              <a:avLst/>
              <a:gdLst>
                <a:gd name="textAreaLeft" fmla="*/ 236160 w 1351080"/>
                <a:gd name="textAreaRight" fmla="*/ 979560 w 1351080"/>
                <a:gd name="textAreaTop" fmla="*/ 52920 h 396720"/>
                <a:gd name="textAreaBottom" fmla="*/ 343800 h 3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>
              <a:hlinkClick r:id="rId2" action="ppaction://hlinksldjump"/>
            </p:cNvPr>
            <p:cNvSpPr/>
            <p:nvPr/>
          </p:nvSpPr>
          <p:spPr>
            <a:xfrm>
              <a:off x="7295760" y="6384960"/>
              <a:ext cx="160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Return to Chapter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706840" y="1898640"/>
            <a:ext cx="5192280" cy="4494960"/>
            <a:chOff x="2706840" y="1898640"/>
            <a:chExt cx="5192280" cy="4494960"/>
          </a:xfrm>
        </p:grpSpPr>
        <p:grpSp>
          <p:nvGrpSpPr>
            <p:cNvPr id="640" name=""/>
            <p:cNvGrpSpPr/>
            <p:nvPr/>
          </p:nvGrpSpPr>
          <p:grpSpPr>
            <a:xfrm>
              <a:off x="3914640" y="5780160"/>
              <a:ext cx="3528720" cy="337320"/>
              <a:chOff x="3914640" y="5780160"/>
              <a:chExt cx="3528720" cy="337320"/>
            </a:xfrm>
          </p:grpSpPr>
          <p:sp>
            <p:nvSpPr>
              <p:cNvPr id="641" name=""/>
              <p:cNvSpPr/>
              <p:nvPr/>
            </p:nvSpPr>
            <p:spPr>
              <a:xfrm>
                <a:off x="3914640" y="5780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551120" y="5780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7600" y="5780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855040" y="5780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400440" y="578016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036920" y="578016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 rot="16200000">
              <a:off x="2150280" y="378468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 of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016080" y="1898640"/>
              <a:ext cx="406440" cy="4062600"/>
              <a:chOff x="3016080" y="1898640"/>
              <a:chExt cx="406440" cy="4062600"/>
            </a:xfrm>
          </p:grpSpPr>
          <p:sp>
            <p:nvSpPr>
              <p:cNvPr id="649" name=""/>
              <p:cNvSpPr/>
              <p:nvPr/>
            </p:nvSpPr>
            <p:spPr>
              <a:xfrm>
                <a:off x="3129120" y="37134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29120" y="31132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016080" y="249804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016080" y="189864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129120" y="4334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129120" y="4956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29120" y="5623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3398760" y="2055960"/>
              <a:ext cx="4500360" cy="3755520"/>
              <a:chOff x="3398760" y="2055960"/>
              <a:chExt cx="4500360" cy="3755520"/>
            </a:xfrm>
          </p:grpSpPr>
          <p:grpSp>
            <p:nvGrpSpPr>
              <p:cNvPr id="657" name=""/>
              <p:cNvGrpSpPr/>
              <p:nvPr/>
            </p:nvGrpSpPr>
            <p:grpSpPr>
              <a:xfrm>
                <a:off x="3403080" y="2055960"/>
                <a:ext cx="4494960" cy="3754800"/>
                <a:chOff x="3403080" y="2055960"/>
                <a:chExt cx="4494960" cy="3754800"/>
              </a:xfrm>
            </p:grpSpPr>
            <p:grpSp>
              <p:nvGrpSpPr>
                <p:cNvPr id="658" name=""/>
                <p:cNvGrpSpPr/>
                <p:nvPr/>
              </p:nvGrpSpPr>
              <p:grpSpPr>
                <a:xfrm>
                  <a:off x="3409200" y="2055960"/>
                  <a:ext cx="4488840" cy="3754800"/>
                  <a:chOff x="3409200" y="2055960"/>
                  <a:chExt cx="4488840" cy="375480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>
                    <a:off x="340920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405000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469188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533304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597420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661572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725688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789804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3403080" y="2060280"/>
                  <a:ext cx="4486320" cy="3739680"/>
                  <a:chOff x="3403080" y="2060280"/>
                  <a:chExt cx="4486320" cy="373968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3403080" y="579996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3403080" y="510480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3403080" y="449208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3403080" y="387936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3403080" y="327672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3403080" y="266292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3403080" y="206028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5" name=""/>
              <p:cNvSpPr/>
              <p:nvPr/>
            </p:nvSpPr>
            <p:spPr>
              <a:xfrm>
                <a:off x="3398760" y="2057760"/>
                <a:ext cx="0" cy="375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398760" y="5796720"/>
                <a:ext cx="450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723920" y="605628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 of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394160" y="1771560"/>
            <a:ext cx="3373560" cy="3132360"/>
          </a:xfrm>
          <a:custGeom>
            <a:avLst/>
            <a:gdLst/>
            <a:ahLst/>
            <a:rect l="l" t="t" r="r" b="b"/>
            <a:pathLst>
              <a:path w="1481" h="1433">
                <a:moveTo>
                  <a:pt x="0" y="0"/>
                </a:moveTo>
                <a:cubicBezTo>
                  <a:pt x="99" y="323"/>
                  <a:pt x="198" y="647"/>
                  <a:pt x="295" y="836"/>
                </a:cubicBezTo>
                <a:cubicBezTo>
                  <a:pt x="392" y="1025"/>
                  <a:pt x="486" y="1061"/>
                  <a:pt x="583" y="1131"/>
                </a:cubicBezTo>
                <a:cubicBezTo>
                  <a:pt x="680" y="1201"/>
                  <a:pt x="728" y="1205"/>
                  <a:pt x="878" y="1255"/>
                </a:cubicBezTo>
                <a:cubicBezTo>
                  <a:pt x="1028" y="1305"/>
                  <a:pt x="1381" y="1403"/>
                  <a:pt x="1481" y="1433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27360" y="2382840"/>
            <a:ext cx="3373560" cy="3132000"/>
          </a:xfrm>
          <a:custGeom>
            <a:avLst/>
            <a:gdLst/>
            <a:ahLst/>
            <a:rect l="l" t="t" r="r" b="b"/>
            <a:pathLst>
              <a:path w="1481" h="1433">
                <a:moveTo>
                  <a:pt x="0" y="0"/>
                </a:moveTo>
                <a:cubicBezTo>
                  <a:pt x="99" y="323"/>
                  <a:pt x="198" y="647"/>
                  <a:pt x="295" y="836"/>
                </a:cubicBezTo>
                <a:cubicBezTo>
                  <a:pt x="392" y="1025"/>
                  <a:pt x="486" y="1061"/>
                  <a:pt x="583" y="1131"/>
                </a:cubicBezTo>
                <a:cubicBezTo>
                  <a:pt x="680" y="1201"/>
                  <a:pt x="728" y="1205"/>
                  <a:pt x="878" y="1255"/>
                </a:cubicBezTo>
                <a:cubicBezTo>
                  <a:pt x="1028" y="1305"/>
                  <a:pt x="1381" y="1403"/>
                  <a:pt x="1481" y="1433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57440" y="2590920"/>
            <a:ext cx="3326040" cy="3087720"/>
          </a:xfrm>
          <a:custGeom>
            <a:avLst/>
            <a:gdLst/>
            <a:ahLst/>
            <a:rect l="l" t="t" r="r" b="b"/>
            <a:pathLst>
              <a:path w="1481" h="1433">
                <a:moveTo>
                  <a:pt x="0" y="0"/>
                </a:moveTo>
                <a:cubicBezTo>
                  <a:pt x="99" y="323"/>
                  <a:pt x="198" y="647"/>
                  <a:pt x="295" y="836"/>
                </a:cubicBezTo>
                <a:cubicBezTo>
                  <a:pt x="392" y="1025"/>
                  <a:pt x="486" y="1061"/>
                  <a:pt x="583" y="1131"/>
                </a:cubicBezTo>
                <a:cubicBezTo>
                  <a:pt x="680" y="1201"/>
                  <a:pt x="728" y="1205"/>
                  <a:pt x="878" y="1255"/>
                </a:cubicBezTo>
                <a:cubicBezTo>
                  <a:pt x="1028" y="1305"/>
                  <a:pt x="1381" y="1403"/>
                  <a:pt x="1481" y="1433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716880" y="547200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58080" y="529128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410600" y="498780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96440" y="470700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406680" y="3282840"/>
            <a:ext cx="3841920" cy="249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086360" y="2085840"/>
            <a:ext cx="3373200" cy="3132360"/>
          </a:xfrm>
          <a:custGeom>
            <a:avLst/>
            <a:gdLst/>
            <a:ahLst/>
            <a:rect l="l" t="t" r="r" b="b"/>
            <a:pathLst>
              <a:path w="1481" h="1433">
                <a:moveTo>
                  <a:pt x="0" y="0"/>
                </a:moveTo>
                <a:cubicBezTo>
                  <a:pt x="99" y="323"/>
                  <a:pt x="198" y="647"/>
                  <a:pt x="295" y="836"/>
                </a:cubicBezTo>
                <a:cubicBezTo>
                  <a:pt x="392" y="1025"/>
                  <a:pt x="486" y="1061"/>
                  <a:pt x="583" y="1131"/>
                </a:cubicBezTo>
                <a:cubicBezTo>
                  <a:pt x="680" y="1201"/>
                  <a:pt x="728" y="1205"/>
                  <a:pt x="878" y="1255"/>
                </a:cubicBezTo>
                <a:cubicBezTo>
                  <a:pt x="1028" y="1305"/>
                  <a:pt x="1381" y="1403"/>
                  <a:pt x="1481" y="1433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267160" y="4430880"/>
            <a:ext cx="120960" cy="120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575320" y="4116240"/>
            <a:ext cx="120600" cy="120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362200" y="4284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559480" y="381492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219720" y="3568680"/>
            <a:ext cx="17658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Preferred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But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More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5725800" y="3984480"/>
            <a:ext cx="555480" cy="184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023080" y="2603520"/>
            <a:ext cx="1498320" cy="770760"/>
            <a:chOff x="5023080" y="2603520"/>
            <a:chExt cx="1498320" cy="770760"/>
          </a:xfrm>
        </p:grpSpPr>
        <p:sp>
          <p:nvSpPr>
            <p:cNvPr id="694" name=""/>
            <p:cNvSpPr/>
            <p:nvPr/>
          </p:nvSpPr>
          <p:spPr>
            <a:xfrm>
              <a:off x="5023080" y="2801880"/>
              <a:ext cx="103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RS =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5954760" y="2603520"/>
              <a:ext cx="566640" cy="770760"/>
              <a:chOff x="5954760" y="2603520"/>
              <a:chExt cx="566640" cy="770760"/>
            </a:xfrm>
          </p:grpSpPr>
          <p:sp>
            <p:nvSpPr>
              <p:cNvPr id="696" name=""/>
              <p:cNvSpPr/>
              <p:nvPr/>
            </p:nvSpPr>
            <p:spPr>
              <a:xfrm>
                <a:off x="6010560" y="260352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10560" y="293364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954760" y="2995560"/>
                <a:ext cx="566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9" name=""/>
          <p:cNvSpPr/>
          <p:nvPr/>
        </p:nvSpPr>
        <p:spPr>
          <a:xfrm flipH="1">
            <a:off x="5367240" y="3124080"/>
            <a:ext cx="42552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87720" y="110664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ppend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4707000"/>
            <a:ext cx="1671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Indifference Curv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Demand Cu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Appendix 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000"/>
                            </p:stCondLst>
                            <p:childTnLst>
                              <p:par>
                                <p:cTn id="9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10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indefinite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3000"/>
                            </p:stCondLst>
                            <p:childTnLst>
                              <p:par>
                                <p:cTn id="98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9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  <p:set>
                                      <p:cBhvr>
                                        <p:cTn id="996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824040"/>
            <a:ext cx="72216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otal Utility, Marginal Utility, and the Law of Diminishing Marginal Utility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How Rational Consumers Compare Marginal Utility-to-Price Ratios for Products in Purchasing Combinations to Maximize Total Utility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How to Derive the Demand Curve by Observing Behavior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How the Utility-Maximization Model Highlights Income and Substitution Effects of a Price Change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udget Lines, Indifference Curves, Utility Maximization, and Demand Derivation in the Indifference Curve Model of Consumer Behavior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21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ivation of the Demand Cur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719000" y="678960"/>
            <a:ext cx="72183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Measurement of Utility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730520" y="4214880"/>
            <a:ext cx="3552840" cy="2442240"/>
            <a:chOff x="1730520" y="4214880"/>
            <a:chExt cx="3552840" cy="2442240"/>
          </a:xfrm>
        </p:grpSpPr>
        <p:grpSp>
          <p:nvGrpSpPr>
            <p:cNvPr id="705" name=""/>
            <p:cNvGrpSpPr/>
            <p:nvPr/>
          </p:nvGrpSpPr>
          <p:grpSpPr>
            <a:xfrm>
              <a:off x="2433600" y="4214880"/>
              <a:ext cx="2849760" cy="1996920"/>
              <a:chOff x="2433600" y="4214880"/>
              <a:chExt cx="2849760" cy="199692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2436840" y="4214880"/>
                <a:ext cx="2846520" cy="1996920"/>
                <a:chOff x="2436840" y="4214880"/>
                <a:chExt cx="2846520" cy="1996920"/>
              </a:xfrm>
            </p:grpSpPr>
            <p:grpSp>
              <p:nvGrpSpPr>
                <p:cNvPr id="707" name=""/>
                <p:cNvGrpSpPr/>
                <p:nvPr/>
              </p:nvGrpSpPr>
              <p:grpSpPr>
                <a:xfrm>
                  <a:off x="2441520" y="4214880"/>
                  <a:ext cx="2841840" cy="1996920"/>
                  <a:chOff x="2441520" y="4214880"/>
                  <a:chExt cx="2841840" cy="199692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>
                    <a:off x="2441520" y="4214880"/>
                    <a:ext cx="0" cy="19969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2847240" y="4214880"/>
                    <a:ext cx="0" cy="19969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3253320" y="4214880"/>
                    <a:ext cx="0" cy="19969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3659400" y="4214880"/>
                    <a:ext cx="0" cy="19969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4065120" y="4214880"/>
                    <a:ext cx="0" cy="19969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4471560" y="4214880"/>
                    <a:ext cx="0" cy="19969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4877280" y="4214880"/>
                    <a:ext cx="0" cy="19969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5283360" y="4214880"/>
                    <a:ext cx="0" cy="19969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6" name=""/>
                <p:cNvGrpSpPr/>
                <p:nvPr/>
              </p:nvGrpSpPr>
              <p:grpSpPr>
                <a:xfrm>
                  <a:off x="2436840" y="4218120"/>
                  <a:ext cx="2841480" cy="1987560"/>
                  <a:chOff x="2436840" y="4218120"/>
                  <a:chExt cx="2841480" cy="1987560"/>
                </a:xfrm>
              </p:grpSpPr>
              <p:sp>
                <p:nvSpPr>
                  <p:cNvPr id="717" name=""/>
                  <p:cNvSpPr/>
                  <p:nvPr/>
                </p:nvSpPr>
                <p:spPr>
                  <a:xfrm>
                    <a:off x="2436840" y="6205680"/>
                    <a:ext cx="284148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2436840" y="5765760"/>
                    <a:ext cx="284148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2436840" y="5376960"/>
                    <a:ext cx="284148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2436840" y="4989600"/>
                    <a:ext cx="284148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2436840" y="4606920"/>
                    <a:ext cx="284148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2436840" y="4218120"/>
                    <a:ext cx="284148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3" name=""/>
              <p:cNvSpPr/>
              <p:nvPr/>
            </p:nvSpPr>
            <p:spPr>
              <a:xfrm>
                <a:off x="2433600" y="4214880"/>
                <a:ext cx="0" cy="199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433600" y="6202440"/>
                <a:ext cx="28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 rot="16200000">
              <a:off x="1335600" y="485064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 of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1909080" y="4846680"/>
              <a:ext cx="564840" cy="1059120"/>
              <a:chOff x="1909080" y="4846680"/>
              <a:chExt cx="564840" cy="1059120"/>
            </a:xfrm>
          </p:grpSpPr>
          <p:sp>
            <p:nvSpPr>
              <p:cNvPr id="727" name=""/>
              <p:cNvSpPr/>
              <p:nvPr/>
            </p:nvSpPr>
            <p:spPr>
              <a:xfrm>
                <a:off x="1909080" y="4846680"/>
                <a:ext cx="564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1.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994040" y="5243400"/>
                <a:ext cx="47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078280" y="56293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2489040" y="615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697120" y="615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904840" y="615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101760" y="615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98680" y="615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06760" y="615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692520" y="615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22560" y="615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08320" y="615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71400" y="61596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479480" y="61596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87560" y="61596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074400" y="631980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 of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344560" y="1424160"/>
            <a:ext cx="3618720" cy="892800"/>
            <a:chOff x="5344560" y="1424160"/>
            <a:chExt cx="3618720" cy="892800"/>
          </a:xfrm>
        </p:grpSpPr>
        <p:sp>
          <p:nvSpPr>
            <p:cNvPr id="744" name=""/>
            <p:cNvSpPr/>
            <p:nvPr/>
          </p:nvSpPr>
          <p:spPr>
            <a:xfrm>
              <a:off x="5344560" y="1427040"/>
              <a:ext cx="1632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rginal Ut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f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30320" y="1424160"/>
              <a:ext cx="1632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rginal Ut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f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597280" y="197964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 of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83400" y="197640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 of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430960" y="198936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405560" y="1986120"/>
              <a:ext cx="148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42600" y="17272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1833480" y="1241280"/>
            <a:ext cx="3531600" cy="2985480"/>
            <a:chOff x="1833480" y="1241280"/>
            <a:chExt cx="3531600" cy="2985480"/>
          </a:xfrm>
        </p:grpSpPr>
        <p:sp>
          <p:nvSpPr>
            <p:cNvPr id="752" name=""/>
            <p:cNvSpPr/>
            <p:nvPr/>
          </p:nvSpPr>
          <p:spPr>
            <a:xfrm>
              <a:off x="3681720" y="26748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448000" y="2187720"/>
              <a:ext cx="2448000" cy="1558800"/>
            </a:xfrm>
            <a:prstGeom prst="rtTriangl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2697120" y="3743280"/>
              <a:ext cx="2365920" cy="307080"/>
              <a:chOff x="2697120" y="3743280"/>
              <a:chExt cx="2365920" cy="307080"/>
            </a:xfrm>
          </p:grpSpPr>
          <p:sp>
            <p:nvSpPr>
              <p:cNvPr id="755" name=""/>
              <p:cNvSpPr/>
              <p:nvPr/>
            </p:nvSpPr>
            <p:spPr>
              <a:xfrm>
                <a:off x="2697120" y="3743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100320" y="3743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14680" y="3743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915360" y="3743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272120" y="37432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684320" y="37432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 rot="16200000">
              <a:off x="1276920" y="237492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 of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072880" y="1241280"/>
              <a:ext cx="378720" cy="2697840"/>
              <a:chOff x="2072880" y="1241280"/>
              <a:chExt cx="378720" cy="2697840"/>
            </a:xfrm>
          </p:grpSpPr>
          <p:sp>
            <p:nvSpPr>
              <p:cNvPr id="763" name=""/>
              <p:cNvSpPr/>
              <p:nvPr/>
            </p:nvSpPr>
            <p:spPr>
              <a:xfrm>
                <a:off x="2171520" y="23922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71520" y="2009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072880" y="162072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072880" y="12412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171520" y="27846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171520" y="3176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171520" y="3632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2436840" y="1392120"/>
              <a:ext cx="2849400" cy="2378160"/>
              <a:chOff x="2436840" y="1392120"/>
              <a:chExt cx="2849400" cy="2378160"/>
            </a:xfrm>
          </p:grpSpPr>
          <p:grpSp>
            <p:nvGrpSpPr>
              <p:cNvPr id="771" name=""/>
              <p:cNvGrpSpPr/>
              <p:nvPr/>
            </p:nvGrpSpPr>
            <p:grpSpPr>
              <a:xfrm>
                <a:off x="2439360" y="1392120"/>
                <a:ext cx="2846160" cy="2378160"/>
                <a:chOff x="2439360" y="1392120"/>
                <a:chExt cx="2846160" cy="2378160"/>
              </a:xfrm>
            </p:grpSpPr>
            <p:grpSp>
              <p:nvGrpSpPr>
                <p:cNvPr id="772" name=""/>
                <p:cNvGrpSpPr/>
                <p:nvPr/>
              </p:nvGrpSpPr>
              <p:grpSpPr>
                <a:xfrm>
                  <a:off x="2443320" y="1392120"/>
                  <a:ext cx="2842200" cy="2378160"/>
                  <a:chOff x="2443320" y="1392120"/>
                  <a:chExt cx="2842200" cy="237816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244332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84904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325548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366120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406728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47336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487944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528552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" name=""/>
                <p:cNvGrpSpPr/>
                <p:nvPr/>
              </p:nvGrpSpPr>
              <p:grpSpPr>
                <a:xfrm>
                  <a:off x="2439360" y="1394640"/>
                  <a:ext cx="2840760" cy="2368440"/>
                  <a:chOff x="2439360" y="1394640"/>
                  <a:chExt cx="2840760" cy="2368440"/>
                </a:xfrm>
              </p:grpSpPr>
              <p:sp>
                <p:nvSpPr>
                  <p:cNvPr id="782" name=""/>
                  <p:cNvSpPr/>
                  <p:nvPr/>
                </p:nvSpPr>
                <p:spPr>
                  <a:xfrm>
                    <a:off x="2439360" y="376308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2439360" y="332244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2439360" y="293472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2439360" y="254664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2439360" y="216504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2439360" y="177624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2439360" y="139464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9" name=""/>
              <p:cNvSpPr/>
              <p:nvPr/>
            </p:nvSpPr>
            <p:spPr>
              <a:xfrm>
                <a:off x="2436840" y="1393200"/>
                <a:ext cx="0" cy="237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436840" y="3760920"/>
                <a:ext cx="284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3066480" y="388944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 of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98000">
              <a:off x="2502000" y="1523880"/>
              <a:ext cx="2309760" cy="1943280"/>
            </a:xfrm>
            <a:custGeom>
              <a:avLst/>
              <a:gdLst/>
              <a:ahLst/>
              <a:rect l="l" t="t" r="r" b="b"/>
              <a:pathLst>
                <a:path w="1481" h="1433">
                  <a:moveTo>
                    <a:pt x="0" y="0"/>
                  </a:moveTo>
                  <a:cubicBezTo>
                    <a:pt x="99" y="323"/>
                    <a:pt x="198" y="647"/>
                    <a:pt x="295" y="836"/>
                  </a:cubicBezTo>
                  <a:cubicBezTo>
                    <a:pt x="392" y="1025"/>
                    <a:pt x="486" y="1061"/>
                    <a:pt x="583" y="1131"/>
                  </a:cubicBezTo>
                  <a:cubicBezTo>
                    <a:pt x="680" y="1201"/>
                    <a:pt x="728" y="1205"/>
                    <a:pt x="878" y="1255"/>
                  </a:cubicBezTo>
                  <a:cubicBezTo>
                    <a:pt x="1028" y="1305"/>
                    <a:pt x="1381" y="1403"/>
                    <a:pt x="1481" y="1433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688640" y="340056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41520" y="2168640"/>
              <a:ext cx="2432160" cy="1577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84320" y="1479600"/>
              <a:ext cx="2256120" cy="1960560"/>
            </a:xfrm>
            <a:custGeom>
              <a:avLst/>
              <a:gdLst/>
              <a:ahLst/>
              <a:rect l="l" t="t" r="r" b="b"/>
              <a:pathLst>
                <a:path w="1481" h="1433">
                  <a:moveTo>
                    <a:pt x="0" y="0"/>
                  </a:moveTo>
                  <a:cubicBezTo>
                    <a:pt x="99" y="323"/>
                    <a:pt x="198" y="647"/>
                    <a:pt x="295" y="836"/>
                  </a:cubicBezTo>
                  <a:cubicBezTo>
                    <a:pt x="392" y="1025"/>
                    <a:pt x="486" y="1061"/>
                    <a:pt x="583" y="1131"/>
                  </a:cubicBezTo>
                  <a:cubicBezTo>
                    <a:pt x="680" y="1201"/>
                    <a:pt x="728" y="1205"/>
                    <a:pt x="878" y="1255"/>
                  </a:cubicBezTo>
                  <a:cubicBezTo>
                    <a:pt x="1028" y="1305"/>
                    <a:pt x="1381" y="1403"/>
                    <a:pt x="1481" y="1433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076000" y="327492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598920" y="2873520"/>
              <a:ext cx="119160" cy="118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2438280" y="2189160"/>
            <a:ext cx="1633680" cy="157788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995560" y="2725560"/>
            <a:ext cx="119160" cy="119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24040" y="4713120"/>
            <a:ext cx="1914480" cy="12099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92320" y="4923000"/>
            <a:ext cx="119160" cy="118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600360" y="5308560"/>
            <a:ext cx="119160" cy="1191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489560" y="5757840"/>
            <a:ext cx="41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65800" y="2462040"/>
            <a:ext cx="362412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At $1 Price for B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6 Units are Purch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Record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As Price of B Increases to $1.5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Only 3 Units of B are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Record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Connect the Poin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Create the Demand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87720" y="110664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ppend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7295760" y="6039000"/>
            <a:ext cx="1604160" cy="622440"/>
            <a:chOff x="7295760" y="6039000"/>
            <a:chExt cx="1604160" cy="622440"/>
          </a:xfrm>
        </p:grpSpPr>
        <p:sp>
          <p:nvSpPr>
            <p:cNvPr id="807" name="">
              <a:hlinkClick r:id="rId1" action="ppaction://hlinksldjump"/>
            </p:cNvPr>
            <p:cNvSpPr/>
            <p:nvPr/>
          </p:nvSpPr>
          <p:spPr>
            <a:xfrm flipH="1" flipV="1">
              <a:off x="7463520" y="6039000"/>
              <a:ext cx="1351080" cy="396720"/>
            </a:xfrm>
            <a:custGeom>
              <a:avLst/>
              <a:gdLst>
                <a:gd name="textAreaLeft" fmla="*/ 236160 w 1351080"/>
                <a:gd name="textAreaRight" fmla="*/ 979560 w 1351080"/>
                <a:gd name="textAreaTop" fmla="*/ 52920 h 396720"/>
                <a:gd name="textAreaBottom" fmla="*/ 343800 h 3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>
              <a:hlinkClick r:id="rId2" action="ppaction://hlinksldjump"/>
            </p:cNvPr>
            <p:cNvSpPr/>
            <p:nvPr/>
          </p:nvSpPr>
          <p:spPr>
            <a:xfrm>
              <a:off x="7295760" y="6384960"/>
              <a:ext cx="160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Return to Chapter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0" y="4707000"/>
            <a:ext cx="1671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Indifference Curv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Demand Cu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Appendix 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10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00"/>
                            </p:stCondLst>
                            <p:childTnLst>
                              <p:par>
                                <p:cTn id="10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indefinite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indefinite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indefinite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indefinite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indefinite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indefinite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1000"/>
                                        <p:tgtEl>
                                          <p:spTgt spid="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725480" y="828720"/>
            <a:ext cx="7108920" cy="4898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b001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endix Key Ter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budget lin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indifference curv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marginal rate of substitution (MRS)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indifference map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equilibrium position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7295760" y="6039000"/>
            <a:ext cx="1604160" cy="622440"/>
            <a:chOff x="7295760" y="6039000"/>
            <a:chExt cx="1604160" cy="622440"/>
          </a:xfrm>
        </p:grpSpPr>
        <p:sp>
          <p:nvSpPr>
            <p:cNvPr id="814" name="">
              <a:hlinkClick r:id="rId6" action="ppaction://hlinksldjump"/>
            </p:cNvPr>
            <p:cNvSpPr/>
            <p:nvPr/>
          </p:nvSpPr>
          <p:spPr>
            <a:xfrm flipH="1" flipV="1">
              <a:off x="7463520" y="6039000"/>
              <a:ext cx="1351080" cy="396720"/>
            </a:xfrm>
            <a:custGeom>
              <a:avLst/>
              <a:gdLst>
                <a:gd name="textAreaLeft" fmla="*/ 236160 w 1351080"/>
                <a:gd name="textAreaRight" fmla="*/ 979560 w 1351080"/>
                <a:gd name="textAreaTop" fmla="*/ 52920 h 396720"/>
                <a:gd name="textAreaBottom" fmla="*/ 343800 h 3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>
              <a:hlinkClick r:id="rId7" action="ppaction://hlinksldjump"/>
            </p:cNvPr>
            <p:cNvSpPr/>
            <p:nvPr/>
          </p:nvSpPr>
          <p:spPr>
            <a:xfrm>
              <a:off x="7295760" y="6384960"/>
              <a:ext cx="160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Return to Chapter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387720" y="110664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ppend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4707000"/>
            <a:ext cx="1671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Indifference Curv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Demand Cu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Appendix 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Arial"/>
              </a:rPr>
              <a:t>Next Chapter Preview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4419720" y="4057560"/>
            <a:ext cx="414468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apter 8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0" name=""/>
          <p:cNvSpPr/>
          <p:nvPr/>
        </p:nvSpPr>
        <p:spPr>
          <a:xfrm>
            <a:off x="1873800" y="2452680"/>
            <a:ext cx="51138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Costs o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7295760" y="6039000"/>
            <a:ext cx="1604160" cy="622440"/>
            <a:chOff x="7295760" y="6039000"/>
            <a:chExt cx="1604160" cy="622440"/>
          </a:xfrm>
        </p:grpSpPr>
        <p:sp>
          <p:nvSpPr>
            <p:cNvPr id="822" name="">
              <a:hlinkClick r:id="rId3" action="ppaction://hlinksldjump"/>
            </p:cNvPr>
            <p:cNvSpPr/>
            <p:nvPr/>
          </p:nvSpPr>
          <p:spPr>
            <a:xfrm flipH="1" flipV="1">
              <a:off x="7463520" y="6039000"/>
              <a:ext cx="1351080" cy="396720"/>
            </a:xfrm>
            <a:custGeom>
              <a:avLst/>
              <a:gdLst>
                <a:gd name="textAreaLeft" fmla="*/ 236160 w 1351080"/>
                <a:gd name="textAreaRight" fmla="*/ 979560 w 1351080"/>
                <a:gd name="textAreaTop" fmla="*/ 52920 h 396720"/>
                <a:gd name="textAreaBottom" fmla="*/ 343800 h 3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>
              <a:hlinkClick r:id="rId4" action="ppaction://hlinksldjump"/>
            </p:cNvPr>
            <p:cNvSpPr/>
            <p:nvPr/>
          </p:nvSpPr>
          <p:spPr>
            <a:xfrm>
              <a:off x="7295760" y="6384960"/>
              <a:ext cx="160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Return to Chapter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0" y="4707000"/>
            <a:ext cx="1671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Indifference Curv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Demand Cu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Appendix 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0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w of Diminishing Marginal Ut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2120" y="1112400"/>
            <a:ext cx="7086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Terminology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Utility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Total Utility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Marginal Utility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arginal Utility and Demand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Graphically…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8224560" y="1162080"/>
            <a:ext cx="618120" cy="694440"/>
            <a:chOff x="8224560" y="1162080"/>
            <a:chExt cx="618120" cy="694440"/>
          </a:xfrm>
        </p:grpSpPr>
        <p:pic>
          <p:nvPicPr>
            <p:cNvPr id="67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302680" y="1162080"/>
              <a:ext cx="4633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>
              <a:hlinkClick r:id="rId3"/>
            </p:cNvPr>
            <p:cNvSpPr/>
            <p:nvPr/>
          </p:nvSpPr>
          <p:spPr>
            <a:xfrm>
              <a:off x="8224560" y="154944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7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8200800" y="3586320"/>
            <a:ext cx="618120" cy="729360"/>
            <a:chOff x="8200800" y="3586320"/>
            <a:chExt cx="618120" cy="729360"/>
          </a:xfrm>
        </p:grpSpPr>
        <p:sp>
          <p:nvSpPr>
            <p:cNvPr id="70" name="">
              <a:hlinkClick r:id="rId4"/>
            </p:cNvPr>
            <p:cNvSpPr/>
            <p:nvPr/>
          </p:nvSpPr>
          <p:spPr>
            <a:xfrm>
              <a:off x="8200800" y="400860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 7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8291520" y="3586320"/>
              <a:ext cx="436680" cy="473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1120" y="4541760"/>
            <a:ext cx="412560" cy="1125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9000" y="4764240"/>
            <a:ext cx="412560" cy="903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76880" y="4998960"/>
            <a:ext cx="412920" cy="668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85120" y="5221440"/>
            <a:ext cx="412560" cy="446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93000" y="5456160"/>
            <a:ext cx="412560" cy="211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08760" y="5676840"/>
            <a:ext cx="412920" cy="223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7680" y="1978200"/>
            <a:ext cx="40176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64000" y="3067200"/>
            <a:ext cx="412920" cy="645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72240" y="2554200"/>
            <a:ext cx="412560" cy="511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80120" y="2198520"/>
            <a:ext cx="412920" cy="354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1984320"/>
            <a:ext cx="412920" cy="209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07360" y="1969920"/>
            <a:ext cx="412560" cy="209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973160" y="1795320"/>
            <a:ext cx="2454480" cy="870120"/>
            <a:chOff x="1973160" y="1795320"/>
            <a:chExt cx="2454480" cy="870120"/>
          </a:xfrm>
        </p:grpSpPr>
        <p:sp>
          <p:nvSpPr>
            <p:cNvPr id="85" name=""/>
            <p:cNvSpPr/>
            <p:nvPr/>
          </p:nvSpPr>
          <p:spPr>
            <a:xfrm>
              <a:off x="1973160" y="1795320"/>
              <a:ext cx="2454480" cy="870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43360" y="1803240"/>
              <a:ext cx="0" cy="85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95680" y="1803240"/>
              <a:ext cx="0" cy="85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w of Diminishing Marginal Ut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45080" y="1324080"/>
            <a:ext cx="3984480" cy="5074200"/>
            <a:chOff x="4645080" y="1324080"/>
            <a:chExt cx="3984480" cy="5074200"/>
          </a:xfrm>
        </p:grpSpPr>
        <p:grpSp>
          <p:nvGrpSpPr>
            <p:cNvPr id="90" name=""/>
            <p:cNvGrpSpPr/>
            <p:nvPr/>
          </p:nvGrpSpPr>
          <p:grpSpPr>
            <a:xfrm>
              <a:off x="5359320" y="1324080"/>
              <a:ext cx="3267000" cy="2396520"/>
              <a:chOff x="5359320" y="1324080"/>
              <a:chExt cx="3267000" cy="239652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5362560" y="1324080"/>
                <a:ext cx="3263760" cy="2396520"/>
                <a:chOff x="5362560" y="1324080"/>
                <a:chExt cx="3263760" cy="23965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536256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77044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17868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8656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99444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40268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81056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821844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62632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5359320" y="1333440"/>
                <a:ext cx="3267000" cy="2379240"/>
                <a:chOff x="5359320" y="1333440"/>
                <a:chExt cx="3267000" cy="23792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359320" y="37126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359320" y="306792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59320" y="24346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359320" y="18010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359320" y="133344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" name=""/>
            <p:cNvGrpSpPr/>
            <p:nvPr/>
          </p:nvGrpSpPr>
          <p:grpSpPr>
            <a:xfrm>
              <a:off x="5359320" y="4367160"/>
              <a:ext cx="3270240" cy="1763640"/>
              <a:chOff x="5359320" y="4367160"/>
              <a:chExt cx="3270240" cy="176364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5359320" y="4370400"/>
                <a:ext cx="3263760" cy="1747800"/>
                <a:chOff x="5359320" y="4370400"/>
                <a:chExt cx="3263760" cy="17478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35932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76720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17544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58332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99120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39944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80732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21520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62308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362560" y="4367160"/>
                <a:ext cx="3267000" cy="1763640"/>
                <a:chOff x="5362560" y="4367160"/>
                <a:chExt cx="3267000" cy="17636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362560" y="522000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362560" y="49888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362560" y="476172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362560" y="453456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362560" y="436716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362560" y="613080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362560" y="58996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362560" y="567252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362560" y="544536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4956120" y="1627200"/>
              <a:ext cx="406440" cy="2258280"/>
              <a:chOff x="4956120" y="1627200"/>
              <a:chExt cx="406440" cy="2258280"/>
            </a:xfrm>
          </p:grpSpPr>
          <p:sp>
            <p:nvSpPr>
              <p:cNvPr id="129" name=""/>
              <p:cNvSpPr/>
              <p:nvPr/>
            </p:nvSpPr>
            <p:spPr>
              <a:xfrm>
                <a:off x="5068800" y="3548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956120" y="29005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956120" y="226404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56120" y="16272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910040" y="4356000"/>
              <a:ext cx="406440" cy="1707480"/>
              <a:chOff x="4910040" y="4356000"/>
              <a:chExt cx="406440" cy="1707480"/>
            </a:xfrm>
          </p:grpSpPr>
          <p:sp>
            <p:nvSpPr>
              <p:cNvPr id="134" name=""/>
              <p:cNvSpPr/>
              <p:nvPr/>
            </p:nvSpPr>
            <p:spPr>
              <a:xfrm>
                <a:off x="4910040" y="4356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23080" y="45972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23080" y="4827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23080" y="5046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3080" y="5265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3080" y="5506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955040" y="572616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616720" y="3641760"/>
              <a:ext cx="2741400" cy="337320"/>
              <a:chOff x="5616720" y="3641760"/>
              <a:chExt cx="2741400" cy="337320"/>
            </a:xfrm>
          </p:grpSpPr>
          <p:sp>
            <p:nvSpPr>
              <p:cNvPr id="142" name=""/>
              <p:cNvSpPr/>
              <p:nvPr/>
            </p:nvSpPr>
            <p:spPr>
              <a:xfrm>
                <a:off x="561672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2460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4364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84072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24860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5648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6472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613480" y="6060960"/>
              <a:ext cx="2741400" cy="337320"/>
              <a:chOff x="5613480" y="6060960"/>
              <a:chExt cx="2741400" cy="337320"/>
            </a:xfrm>
          </p:grpSpPr>
          <p:sp>
            <p:nvSpPr>
              <p:cNvPr id="150" name=""/>
              <p:cNvSpPr/>
              <p:nvPr/>
            </p:nvSpPr>
            <p:spPr>
              <a:xfrm>
                <a:off x="561348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02136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4040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3748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24536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5324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06148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 rot="16200000">
              <a:off x="3857760" y="2527920"/>
              <a:ext cx="191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Utility (Util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3690360" y="4914720"/>
              <a:ext cx="22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rginal Utility (Util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891800" y="1835280"/>
            <a:ext cx="10980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 M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6200" y="1835280"/>
            <a:ext cx="7279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ili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78040" y="1835280"/>
            <a:ext cx="913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ili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2600" y="2698920"/>
            <a:ext cx="30708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480" y="2695680"/>
            <a:ext cx="43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375000" y="2778120"/>
            <a:ext cx="444600" cy="2635200"/>
            <a:chOff x="3375000" y="2778120"/>
            <a:chExt cx="444600" cy="2635200"/>
          </a:xfrm>
        </p:grpSpPr>
        <p:grpSp>
          <p:nvGrpSpPr>
            <p:cNvPr id="165" name=""/>
            <p:cNvGrpSpPr/>
            <p:nvPr/>
          </p:nvGrpSpPr>
          <p:grpSpPr>
            <a:xfrm>
              <a:off x="3375000" y="2778120"/>
              <a:ext cx="444600" cy="520560"/>
              <a:chOff x="3375000" y="2778120"/>
              <a:chExt cx="444600" cy="520560"/>
            </a:xfrm>
          </p:grpSpPr>
          <p:sp>
            <p:nvSpPr>
              <p:cNvPr id="166" name=""/>
              <p:cNvSpPr/>
              <p:nvPr/>
            </p:nvSpPr>
            <p:spPr>
              <a:xfrm>
                <a:off x="3375000" y="277812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524400" y="307332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375000" y="3130560"/>
              <a:ext cx="444600" cy="520560"/>
              <a:chOff x="3375000" y="3130560"/>
              <a:chExt cx="444600" cy="520560"/>
            </a:xfrm>
          </p:grpSpPr>
          <p:sp>
            <p:nvSpPr>
              <p:cNvPr id="169" name=""/>
              <p:cNvSpPr/>
              <p:nvPr/>
            </p:nvSpPr>
            <p:spPr>
              <a:xfrm>
                <a:off x="3375000" y="313056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24400" y="34257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3375000" y="3483000"/>
              <a:ext cx="444600" cy="520560"/>
              <a:chOff x="3375000" y="3483000"/>
              <a:chExt cx="444600" cy="520560"/>
            </a:xfrm>
          </p:grpSpPr>
          <p:sp>
            <p:nvSpPr>
              <p:cNvPr id="172" name=""/>
              <p:cNvSpPr/>
              <p:nvPr/>
            </p:nvSpPr>
            <p:spPr>
              <a:xfrm>
                <a:off x="3375000" y="348300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24400" y="377820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375000" y="3835440"/>
              <a:ext cx="444600" cy="520560"/>
              <a:chOff x="3375000" y="3835440"/>
              <a:chExt cx="444600" cy="520560"/>
            </a:xfrm>
          </p:grpSpPr>
          <p:sp>
            <p:nvSpPr>
              <p:cNvPr id="175" name=""/>
              <p:cNvSpPr/>
              <p:nvPr/>
            </p:nvSpPr>
            <p:spPr>
              <a:xfrm>
                <a:off x="3375000" y="383544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24400" y="413064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3375000" y="4187880"/>
              <a:ext cx="444600" cy="520560"/>
              <a:chOff x="3375000" y="4187880"/>
              <a:chExt cx="444600" cy="520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375000" y="418788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524400" y="448308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375000" y="4540320"/>
              <a:ext cx="444600" cy="520560"/>
              <a:chOff x="3375000" y="4540320"/>
              <a:chExt cx="444600" cy="520560"/>
            </a:xfrm>
          </p:grpSpPr>
          <p:sp>
            <p:nvSpPr>
              <p:cNvPr id="181" name=""/>
              <p:cNvSpPr/>
              <p:nvPr/>
            </p:nvSpPr>
            <p:spPr>
              <a:xfrm>
                <a:off x="3375000" y="454032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24400" y="483552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375000" y="4892760"/>
              <a:ext cx="444600" cy="520560"/>
              <a:chOff x="3375000" y="4892760"/>
              <a:chExt cx="444600" cy="520560"/>
            </a:xfrm>
          </p:grpSpPr>
          <p:sp>
            <p:nvSpPr>
              <p:cNvPr id="184" name=""/>
              <p:cNvSpPr/>
              <p:nvPr/>
            </p:nvSpPr>
            <p:spPr>
              <a:xfrm>
                <a:off x="3375000" y="489276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24400" y="51879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3782160" y="2795760"/>
            <a:ext cx="4338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07360" y="5670720"/>
            <a:ext cx="40140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14840" y="4471920"/>
            <a:ext cx="10188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34240" y="471024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43560" y="492912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43880" y="515772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72280" y="538632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62880" y="561492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72560" y="584352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4360" y="3014640"/>
            <a:ext cx="10188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24680" y="2500200"/>
            <a:ext cx="10152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34000" y="2138400"/>
            <a:ext cx="10188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43680" y="193356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53360" y="193356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63040" y="2128680"/>
            <a:ext cx="10152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33840" y="4451400"/>
            <a:ext cx="2846520" cy="158256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1940040"/>
            <a:ext cx="2449800" cy="1768320"/>
          </a:xfrm>
          <a:custGeom>
            <a:avLst/>
            <a:gdLst/>
            <a:ahLst/>
            <a:rect l="l" t="t" r="r" b="b"/>
            <a:pathLst>
              <a:path w="1543" h="1114">
                <a:moveTo>
                  <a:pt x="0" y="1114"/>
                </a:moveTo>
                <a:cubicBezTo>
                  <a:pt x="85" y="970"/>
                  <a:pt x="171" y="826"/>
                  <a:pt x="256" y="704"/>
                </a:cubicBezTo>
                <a:cubicBezTo>
                  <a:pt x="341" y="582"/>
                  <a:pt x="425" y="477"/>
                  <a:pt x="512" y="384"/>
                </a:cubicBezTo>
                <a:cubicBezTo>
                  <a:pt x="599" y="291"/>
                  <a:pt x="690" y="208"/>
                  <a:pt x="775" y="148"/>
                </a:cubicBezTo>
                <a:cubicBezTo>
                  <a:pt x="860" y="88"/>
                  <a:pt x="940" y="47"/>
                  <a:pt x="1024" y="26"/>
                </a:cubicBezTo>
                <a:cubicBezTo>
                  <a:pt x="1108" y="5"/>
                  <a:pt x="1194" y="0"/>
                  <a:pt x="1280" y="20"/>
                </a:cubicBezTo>
                <a:cubicBezTo>
                  <a:pt x="1366" y="40"/>
                  <a:pt x="1454" y="94"/>
                  <a:pt x="1543" y="148"/>
                </a:cubicBezTo>
              </a:path>
            </a:pathLst>
          </a:custGeom>
          <a:noFill/>
          <a:ln w="381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78960" y="20527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80640" y="57196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1640" y="101592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Arial"/>
              </a:rPr>
              <a:t>Total Ut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85960" y="405432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Arial"/>
              </a:rPr>
              <a:t>Marginal Ut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69000" y="62848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s Consumed Per M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70440" y="38368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s Consumed Per M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2480" y="76320"/>
            <a:ext cx="7188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eory of Consumer Behavio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52120" y="735120"/>
            <a:ext cx="7086600" cy="58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onsumer Choice and Budget Constraint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ational Behavior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eference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Budget Constrain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ice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Utility Maximizing Rule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llocate Money Income so that Last Dollar Spent on Each Product Yields the Same Marginal Utility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indefinite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30520" y="1817640"/>
            <a:ext cx="7119720" cy="210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33400" y="54000"/>
            <a:ext cx="7259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eory of Consumer Behavio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04960" y="682560"/>
            <a:ext cx="72374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33"/>
                </a:solidFill>
                <a:uFillTx/>
                <a:latin typeface="Arial"/>
              </a:rPr>
              <a:t>Numerical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tility-Maximizing Combination of Products </a:t>
            </a:r>
            <a:r>
              <a:rPr b="1" lang="en-US" sz="2600" spc="-1" strike="noStrike">
                <a:solidFill>
                  <a:srgbClr val="990033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669900"/>
                </a:solidFill>
                <a:latin typeface="Arial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btainable with an </a:t>
            </a:r>
            <a:r>
              <a:rPr b="1" lang="en-US" sz="2600" spc="-1" strike="noStrike">
                <a:solidFill>
                  <a:srgbClr val="990033"/>
                </a:solidFill>
                <a:latin typeface="Arial"/>
              </a:rPr>
              <a:t>Income of $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85680" y="3121200"/>
            <a:ext cx="1044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300120" y="2887560"/>
            <a:ext cx="4059720" cy="1025640"/>
            <a:chOff x="3300120" y="2887560"/>
            <a:chExt cx="4059720" cy="1025640"/>
          </a:xfrm>
        </p:grpSpPr>
        <p:sp>
          <p:nvSpPr>
            <p:cNvPr id="216" name=""/>
            <p:cNvSpPr/>
            <p:nvPr/>
          </p:nvSpPr>
          <p:spPr>
            <a:xfrm>
              <a:off x="330012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3880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536000" y="2654280"/>
            <a:ext cx="4248720" cy="1258560"/>
            <a:chOff x="4536000" y="2654280"/>
            <a:chExt cx="4248720" cy="1258560"/>
          </a:xfrm>
        </p:grpSpPr>
        <p:sp>
          <p:nvSpPr>
            <p:cNvPr id="219" name=""/>
            <p:cNvSpPr/>
            <p:nvPr/>
          </p:nvSpPr>
          <p:spPr>
            <a:xfrm>
              <a:off x="453600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7468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243240" y="1879560"/>
            <a:ext cx="2612880" cy="792720"/>
            <a:chOff x="3243240" y="1879560"/>
            <a:chExt cx="2612880" cy="792720"/>
          </a:xfrm>
        </p:grpSpPr>
        <p:sp>
          <p:nvSpPr>
            <p:cNvPr id="222" name=""/>
            <p:cNvSpPr/>
            <p:nvPr/>
          </p:nvSpPr>
          <p:spPr>
            <a:xfrm>
              <a:off x="3875040" y="1879560"/>
              <a:ext cx="13496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oduct 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ice = $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3240" y="2654280"/>
              <a:ext cx="261288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184800" y="1876320"/>
            <a:ext cx="2613240" cy="792720"/>
            <a:chOff x="6184800" y="1876320"/>
            <a:chExt cx="2613240" cy="792720"/>
          </a:xfrm>
        </p:grpSpPr>
        <p:sp>
          <p:nvSpPr>
            <p:cNvPr id="225" name=""/>
            <p:cNvSpPr/>
            <p:nvPr/>
          </p:nvSpPr>
          <p:spPr>
            <a:xfrm>
              <a:off x="6816600" y="1876320"/>
              <a:ext cx="13496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oduct B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= $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4800" y="2651040"/>
              <a:ext cx="26132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843920" y="3898800"/>
            <a:ext cx="5187240" cy="2760120"/>
            <a:chOff x="1843920" y="3898800"/>
            <a:chExt cx="5187240" cy="2760120"/>
          </a:xfrm>
        </p:grpSpPr>
        <p:sp>
          <p:nvSpPr>
            <p:cNvPr id="228" name=""/>
            <p:cNvSpPr/>
            <p:nvPr/>
          </p:nvSpPr>
          <p:spPr>
            <a:xfrm>
              <a:off x="1843920" y="3898800"/>
              <a:ext cx="11714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f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x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ve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288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671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959000" y="3898800"/>
            <a:ext cx="3402360" cy="2760120"/>
            <a:chOff x="4959000" y="3898800"/>
            <a:chExt cx="3402360" cy="2760120"/>
          </a:xfrm>
        </p:grpSpPr>
        <p:sp>
          <p:nvSpPr>
            <p:cNvPr id="232" name=""/>
            <p:cNvSpPr/>
            <p:nvPr/>
          </p:nvSpPr>
          <p:spPr>
            <a:xfrm>
              <a:off x="49590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973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429000" y="4354560"/>
            <a:ext cx="2592360" cy="22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97600" y="4354560"/>
            <a:ext cx="2754360" cy="22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46440" y="4354560"/>
            <a:ext cx="1591920" cy="22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48240" y="4821120"/>
            <a:ext cx="652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ompare Marginal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hen Compare Per Dollar - MU/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hoose the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heck Budget - Proceed to Next I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16200" y="3892680"/>
            <a:ext cx="3430800" cy="500040"/>
            <a:chOff x="3616200" y="3892680"/>
            <a:chExt cx="3430800" cy="500040"/>
          </a:xfrm>
        </p:grpSpPr>
        <p:sp>
          <p:nvSpPr>
            <p:cNvPr id="239" name=""/>
            <p:cNvSpPr/>
            <p:nvPr/>
          </p:nvSpPr>
          <p:spPr>
            <a:xfrm>
              <a:off x="3616200" y="3892680"/>
              <a:ext cx="500040" cy="500040"/>
            </a:xfrm>
            <a:prstGeom prst="ellipse">
              <a:avLst/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46960" y="3892680"/>
              <a:ext cx="500040" cy="500040"/>
            </a:xfrm>
            <a:prstGeom prst="ellipse">
              <a:avLst/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946760" y="3892680"/>
            <a:ext cx="3430440" cy="500040"/>
            <a:chOff x="4946760" y="3892680"/>
            <a:chExt cx="3430440" cy="500040"/>
          </a:xfrm>
        </p:grpSpPr>
        <p:sp>
          <p:nvSpPr>
            <p:cNvPr id="242" name=""/>
            <p:cNvSpPr/>
            <p:nvPr/>
          </p:nvSpPr>
          <p:spPr>
            <a:xfrm>
              <a:off x="4946760" y="3892680"/>
              <a:ext cx="500040" cy="500040"/>
            </a:xfrm>
            <a:prstGeom prst="ellipse">
              <a:avLst/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77160" y="3892680"/>
              <a:ext cx="500040" cy="500040"/>
            </a:xfrm>
            <a:prstGeom prst="ellipse">
              <a:avLst/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4" name=""/>
          <p:cNvGraphicFramePr/>
          <p:nvPr/>
        </p:nvGraphicFramePr>
        <p:xfrm>
          <a:off x="8427960" y="3971880"/>
          <a:ext cx="217440" cy="3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7960" y="397188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730520" y="1817640"/>
            <a:ext cx="7119720" cy="210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33400" y="54000"/>
            <a:ext cx="7259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eory of Consumer Behavio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04960" y="682560"/>
            <a:ext cx="72374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33"/>
                </a:solidFill>
                <a:uFillTx/>
                <a:latin typeface="Arial"/>
              </a:rPr>
              <a:t>Numerical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tility-Maximizing Combination of Products </a:t>
            </a:r>
            <a:r>
              <a:rPr b="1" lang="en-US" sz="2600" spc="-1" strike="noStrike">
                <a:solidFill>
                  <a:srgbClr val="990033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669900"/>
                </a:solidFill>
                <a:latin typeface="Arial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btainable with an </a:t>
            </a:r>
            <a:r>
              <a:rPr b="1" lang="en-US" sz="2600" spc="-1" strike="noStrike">
                <a:solidFill>
                  <a:srgbClr val="990033"/>
                </a:solidFill>
                <a:latin typeface="Arial"/>
              </a:rPr>
              <a:t>Income of $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85680" y="3121200"/>
            <a:ext cx="1044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300120" y="2887560"/>
            <a:ext cx="4059720" cy="1025640"/>
            <a:chOff x="3300120" y="2887560"/>
            <a:chExt cx="4059720" cy="1025640"/>
          </a:xfrm>
        </p:grpSpPr>
        <p:sp>
          <p:nvSpPr>
            <p:cNvPr id="251" name=""/>
            <p:cNvSpPr/>
            <p:nvPr/>
          </p:nvSpPr>
          <p:spPr>
            <a:xfrm>
              <a:off x="330012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3880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536000" y="2654280"/>
            <a:ext cx="4248720" cy="1258560"/>
            <a:chOff x="4536000" y="2654280"/>
            <a:chExt cx="4248720" cy="1258560"/>
          </a:xfrm>
        </p:grpSpPr>
        <p:sp>
          <p:nvSpPr>
            <p:cNvPr id="254" name=""/>
            <p:cNvSpPr/>
            <p:nvPr/>
          </p:nvSpPr>
          <p:spPr>
            <a:xfrm>
              <a:off x="453600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7468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243240" y="1879560"/>
            <a:ext cx="2612880" cy="792720"/>
            <a:chOff x="3243240" y="1879560"/>
            <a:chExt cx="2612880" cy="792720"/>
          </a:xfrm>
        </p:grpSpPr>
        <p:sp>
          <p:nvSpPr>
            <p:cNvPr id="257" name=""/>
            <p:cNvSpPr/>
            <p:nvPr/>
          </p:nvSpPr>
          <p:spPr>
            <a:xfrm>
              <a:off x="3875040" y="1879560"/>
              <a:ext cx="13496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oduct 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ice = $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43240" y="2654280"/>
              <a:ext cx="261288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184800" y="1876320"/>
            <a:ext cx="2613240" cy="792720"/>
            <a:chOff x="6184800" y="1876320"/>
            <a:chExt cx="2613240" cy="792720"/>
          </a:xfrm>
        </p:grpSpPr>
        <p:sp>
          <p:nvSpPr>
            <p:cNvPr id="260" name=""/>
            <p:cNvSpPr/>
            <p:nvPr/>
          </p:nvSpPr>
          <p:spPr>
            <a:xfrm>
              <a:off x="6816600" y="1876320"/>
              <a:ext cx="13496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oduct B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= $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84800" y="2651040"/>
              <a:ext cx="26132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843920" y="3898800"/>
            <a:ext cx="5187240" cy="2760120"/>
            <a:chOff x="1843920" y="3898800"/>
            <a:chExt cx="5187240" cy="2760120"/>
          </a:xfrm>
        </p:grpSpPr>
        <p:sp>
          <p:nvSpPr>
            <p:cNvPr id="263" name=""/>
            <p:cNvSpPr/>
            <p:nvPr/>
          </p:nvSpPr>
          <p:spPr>
            <a:xfrm>
              <a:off x="1843920" y="3898800"/>
              <a:ext cx="11714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f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x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ve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288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671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959000" y="3898800"/>
            <a:ext cx="3402360" cy="2760120"/>
            <a:chOff x="4959000" y="3898800"/>
            <a:chExt cx="3402360" cy="2760120"/>
          </a:xfrm>
        </p:grpSpPr>
        <p:sp>
          <p:nvSpPr>
            <p:cNvPr id="267" name=""/>
            <p:cNvSpPr/>
            <p:nvPr/>
          </p:nvSpPr>
          <p:spPr>
            <a:xfrm>
              <a:off x="49590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973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429000" y="4354560"/>
            <a:ext cx="2592360" cy="22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97600" y="4702320"/>
            <a:ext cx="275436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46440" y="4702320"/>
            <a:ext cx="15919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41400" y="4821120"/>
            <a:ext cx="680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gain, Compare Per Dollar - MU/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hoose the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uy One of Each – Budget Has $5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oceed to Next I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46760" y="389268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77160" y="428148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427960" y="3971880"/>
          <a:ext cx="217440" cy="3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7960" y="397188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424720" y="4346640"/>
          <a:ext cx="217800" cy="3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24720" y="4346640"/>
                    <a:ext cx="2178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510160" y="3954600"/>
          <a:ext cx="217440" cy="32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10160" y="39546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30520" y="1817640"/>
            <a:ext cx="7119720" cy="210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33400" y="54000"/>
            <a:ext cx="7259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eory of Consumer Behavio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04960" y="682560"/>
            <a:ext cx="72374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33"/>
                </a:solidFill>
                <a:uFillTx/>
                <a:latin typeface="Arial"/>
              </a:rPr>
              <a:t>Numerical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tility-Maximizing Combination of Products </a:t>
            </a:r>
            <a:r>
              <a:rPr b="1" lang="en-US" sz="2600" spc="-1" strike="noStrike">
                <a:solidFill>
                  <a:srgbClr val="990033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669900"/>
                </a:solidFill>
                <a:latin typeface="Arial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btainable with an </a:t>
            </a:r>
            <a:r>
              <a:rPr b="1" lang="en-US" sz="2600" spc="-1" strike="noStrike">
                <a:solidFill>
                  <a:srgbClr val="990033"/>
                </a:solidFill>
                <a:latin typeface="Arial"/>
              </a:rPr>
              <a:t>Income of $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85680" y="3121200"/>
            <a:ext cx="1044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300120" y="2887560"/>
            <a:ext cx="4059720" cy="1025640"/>
            <a:chOff x="3300120" y="2887560"/>
            <a:chExt cx="4059720" cy="1025640"/>
          </a:xfrm>
        </p:grpSpPr>
        <p:sp>
          <p:nvSpPr>
            <p:cNvPr id="286" name=""/>
            <p:cNvSpPr/>
            <p:nvPr/>
          </p:nvSpPr>
          <p:spPr>
            <a:xfrm>
              <a:off x="330012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3880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536000" y="2654280"/>
            <a:ext cx="4248720" cy="1258560"/>
            <a:chOff x="4536000" y="2654280"/>
            <a:chExt cx="4248720" cy="1258560"/>
          </a:xfrm>
        </p:grpSpPr>
        <p:sp>
          <p:nvSpPr>
            <p:cNvPr id="289" name=""/>
            <p:cNvSpPr/>
            <p:nvPr/>
          </p:nvSpPr>
          <p:spPr>
            <a:xfrm>
              <a:off x="453600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7468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243240" y="1879560"/>
            <a:ext cx="2612880" cy="792720"/>
            <a:chOff x="3243240" y="1879560"/>
            <a:chExt cx="2612880" cy="792720"/>
          </a:xfrm>
        </p:grpSpPr>
        <p:sp>
          <p:nvSpPr>
            <p:cNvPr id="292" name=""/>
            <p:cNvSpPr/>
            <p:nvPr/>
          </p:nvSpPr>
          <p:spPr>
            <a:xfrm>
              <a:off x="3875040" y="1879560"/>
              <a:ext cx="13496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oduct 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ice = $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43240" y="2654280"/>
              <a:ext cx="261288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184800" y="1876320"/>
            <a:ext cx="2613240" cy="792720"/>
            <a:chOff x="6184800" y="1876320"/>
            <a:chExt cx="2613240" cy="792720"/>
          </a:xfrm>
        </p:grpSpPr>
        <p:sp>
          <p:nvSpPr>
            <p:cNvPr id="295" name=""/>
            <p:cNvSpPr/>
            <p:nvPr/>
          </p:nvSpPr>
          <p:spPr>
            <a:xfrm>
              <a:off x="6816600" y="1876320"/>
              <a:ext cx="13496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oduct B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= $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84800" y="2651040"/>
              <a:ext cx="26132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843920" y="3898800"/>
            <a:ext cx="5187240" cy="2760120"/>
            <a:chOff x="1843920" y="3898800"/>
            <a:chExt cx="5187240" cy="2760120"/>
          </a:xfrm>
        </p:grpSpPr>
        <p:sp>
          <p:nvSpPr>
            <p:cNvPr id="298" name=""/>
            <p:cNvSpPr/>
            <p:nvPr/>
          </p:nvSpPr>
          <p:spPr>
            <a:xfrm>
              <a:off x="1843920" y="3898800"/>
              <a:ext cx="11714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f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x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ve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288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671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959000" y="3898800"/>
            <a:ext cx="3402360" cy="2760120"/>
            <a:chOff x="4959000" y="3898800"/>
            <a:chExt cx="3402360" cy="2760120"/>
          </a:xfrm>
        </p:grpSpPr>
        <p:sp>
          <p:nvSpPr>
            <p:cNvPr id="302" name=""/>
            <p:cNvSpPr/>
            <p:nvPr/>
          </p:nvSpPr>
          <p:spPr>
            <a:xfrm>
              <a:off x="49590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973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3429000" y="4692600"/>
            <a:ext cx="2592360" cy="18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97600" y="5073480"/>
            <a:ext cx="2754360" cy="15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46440" y="5073480"/>
            <a:ext cx="1591920" cy="15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41400" y="5210280"/>
            <a:ext cx="680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gain, Compare Per Dollar - MU/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uy One More B  – Budget Has $3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oceed to Next I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02200" y="429264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921800" y="467028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8427960" y="3971880"/>
          <a:ext cx="217440" cy="3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7960" y="397188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8424720" y="4346640"/>
          <a:ext cx="217800" cy="3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24720" y="4346640"/>
                    <a:ext cx="2178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5510160" y="3954600"/>
          <a:ext cx="217440" cy="32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10160" y="39546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8466120" y="4721400"/>
          <a:ext cx="217440" cy="32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66120" y="47214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730520" y="1817640"/>
            <a:ext cx="7119720" cy="210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33400" y="54000"/>
            <a:ext cx="7259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eory of Consumer Behavio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4960" y="682560"/>
            <a:ext cx="72374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33"/>
                </a:solidFill>
                <a:uFillTx/>
                <a:latin typeface="Arial"/>
              </a:rPr>
              <a:t>Numerical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tility-Maximizing Combination of Products </a:t>
            </a:r>
            <a:r>
              <a:rPr b="1" lang="en-US" sz="2600" spc="-1" strike="noStrike">
                <a:solidFill>
                  <a:srgbClr val="990033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669900"/>
                </a:solidFill>
                <a:latin typeface="Arial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btainable with an </a:t>
            </a:r>
            <a:r>
              <a:rPr b="1" lang="en-US" sz="2600" spc="-1" strike="noStrike">
                <a:solidFill>
                  <a:srgbClr val="990033"/>
                </a:solidFill>
                <a:latin typeface="Arial"/>
              </a:rPr>
              <a:t>Income of $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85680" y="3121200"/>
            <a:ext cx="1044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00120" y="2887560"/>
            <a:ext cx="4059720" cy="1025640"/>
            <a:chOff x="3300120" y="2887560"/>
            <a:chExt cx="4059720" cy="1025640"/>
          </a:xfrm>
        </p:grpSpPr>
        <p:sp>
          <p:nvSpPr>
            <p:cNvPr id="323" name=""/>
            <p:cNvSpPr/>
            <p:nvPr/>
          </p:nvSpPr>
          <p:spPr>
            <a:xfrm>
              <a:off x="330012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3880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536000" y="2654280"/>
            <a:ext cx="4248720" cy="1258560"/>
            <a:chOff x="4536000" y="2654280"/>
            <a:chExt cx="4248720" cy="1258560"/>
          </a:xfrm>
        </p:grpSpPr>
        <p:sp>
          <p:nvSpPr>
            <p:cNvPr id="326" name=""/>
            <p:cNvSpPr/>
            <p:nvPr/>
          </p:nvSpPr>
          <p:spPr>
            <a:xfrm>
              <a:off x="453600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468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243240" y="1879560"/>
            <a:ext cx="2612880" cy="792720"/>
            <a:chOff x="3243240" y="1879560"/>
            <a:chExt cx="2612880" cy="792720"/>
          </a:xfrm>
        </p:grpSpPr>
        <p:sp>
          <p:nvSpPr>
            <p:cNvPr id="329" name=""/>
            <p:cNvSpPr/>
            <p:nvPr/>
          </p:nvSpPr>
          <p:spPr>
            <a:xfrm>
              <a:off x="3875040" y="1879560"/>
              <a:ext cx="13496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oduct 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ice = $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43240" y="2654280"/>
              <a:ext cx="261288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184800" y="1876320"/>
            <a:ext cx="2613240" cy="792720"/>
            <a:chOff x="6184800" y="1876320"/>
            <a:chExt cx="2613240" cy="792720"/>
          </a:xfrm>
        </p:grpSpPr>
        <p:sp>
          <p:nvSpPr>
            <p:cNvPr id="332" name=""/>
            <p:cNvSpPr/>
            <p:nvPr/>
          </p:nvSpPr>
          <p:spPr>
            <a:xfrm>
              <a:off x="6816600" y="1876320"/>
              <a:ext cx="13496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oduct B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= $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84800" y="2651040"/>
              <a:ext cx="26132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843920" y="3898800"/>
            <a:ext cx="5187240" cy="2760120"/>
            <a:chOff x="1843920" y="3898800"/>
            <a:chExt cx="5187240" cy="2760120"/>
          </a:xfrm>
        </p:grpSpPr>
        <p:sp>
          <p:nvSpPr>
            <p:cNvPr id="335" name=""/>
            <p:cNvSpPr/>
            <p:nvPr/>
          </p:nvSpPr>
          <p:spPr>
            <a:xfrm>
              <a:off x="1843920" y="3898800"/>
              <a:ext cx="11714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f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x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ve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288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671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959000" y="3898800"/>
            <a:ext cx="3402360" cy="2760120"/>
            <a:chOff x="4959000" y="3898800"/>
            <a:chExt cx="3402360" cy="2760120"/>
          </a:xfrm>
        </p:grpSpPr>
        <p:sp>
          <p:nvSpPr>
            <p:cNvPr id="339" name=""/>
            <p:cNvSpPr/>
            <p:nvPr/>
          </p:nvSpPr>
          <p:spPr>
            <a:xfrm>
              <a:off x="49590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973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3429000" y="5052960"/>
            <a:ext cx="2592360" cy="15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97600" y="5475240"/>
            <a:ext cx="2754360" cy="11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46440" y="5475240"/>
            <a:ext cx="1591920" cy="11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41400" y="5632560"/>
            <a:ext cx="680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gain, Compare Per Dollar - MU/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uy One of Each  – Budget Exha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02200" y="429264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943760" y="503712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8427960" y="3971880"/>
          <a:ext cx="217440" cy="3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7960" y="397188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8424720" y="4346640"/>
          <a:ext cx="217800" cy="3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24720" y="4346640"/>
                    <a:ext cx="2178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5510160" y="3954600"/>
          <a:ext cx="217440" cy="32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10160" y="39546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8466120" y="4721400"/>
          <a:ext cx="217440" cy="32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66120" y="47214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5540400" y="4329000"/>
          <a:ext cx="217440" cy="32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40400" y="432900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8496360" y="5095800"/>
          <a:ext cx="217440" cy="320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496360" y="509580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3:07:32Z</dcterms:created>
  <dc:creator>C. Norman Hollingsworth</dc:creator>
  <dc:description/>
  <dc:language>en-US</dc:language>
  <cp:lastModifiedBy>Clarence N. Hollingsworth</cp:lastModifiedBy>
  <dcterms:modified xsi:type="dcterms:W3CDTF">2006-10-21T12:57:24Z</dcterms:modified>
  <cp:revision>183</cp:revision>
  <dc:subject>McConnell-Brue Economics</dc:subject>
  <dc:title>Chapter 7-Micro</dc:title>
</cp:coreProperties>
</file>